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gif" ContentType="image/gif"/>
  <Override PartName="/ppt/media/image7.wmf" ContentType="image/x-wmf"/>
  <Override PartName="/ppt/media/image55.gif" ContentType="image/gif"/>
  <Override PartName="/ppt/media/image56.gif" ContentType="image/gif"/>
  <Override PartName="/ppt/media/image52.wmf" ContentType="image/x-wmf"/>
  <Override PartName="/ppt/media/image27.gif" ContentType="image/gif"/>
  <Override PartName="/ppt/media/image92.gif" ContentType="image/gif"/>
  <Override PartName="/ppt/media/image51.gif" ContentType="image/gif"/>
  <Override PartName="/ppt/media/image46.gif" ContentType="image/gif"/>
  <Override PartName="/ppt/media/image45.gif" ContentType="image/gif"/>
  <Override PartName="/ppt/media/image42.gif" ContentType="image/gif"/>
  <Override PartName="/ppt/media/image38.gif" ContentType="image/gif"/>
  <Override PartName="/ppt/media/image44.gif" ContentType="image/gif"/>
  <Override PartName="/ppt/media/image37.png" ContentType="image/png"/>
  <Override PartName="/ppt/media/image36.gif" ContentType="image/gif"/>
  <Override PartName="/ppt/media/image41.gif" ContentType="image/gif"/>
  <Override PartName="/ppt/media/image75.jpeg" ContentType="image/jpeg"/>
  <Override PartName="/ppt/media/image34.png" ContentType="image/png"/>
  <Override PartName="/ppt/media/image33.jpeg" ContentType="image/jpeg"/>
  <Override PartName="/ppt/media/image30.png" ContentType="image/png"/>
  <Override PartName="/ppt/media/image49.gif" ContentType="image/gif"/>
  <Override PartName="/ppt/media/image12.gif" ContentType="image/gif"/>
  <Override PartName="/ppt/media/image3.png" ContentType="image/png"/>
  <Override PartName="/ppt/media/image80.png" ContentType="image/png"/>
  <Override PartName="/ppt/media/image48.gif" ContentType="image/gif"/>
  <Override PartName="/ppt/media/image102.png" ContentType="image/png"/>
  <Override PartName="/ppt/media/image11.gif" ContentType="image/gif"/>
  <Override PartName="/ppt/media/image39.gif" ContentType="image/gif"/>
  <Override PartName="/ppt/media/image9.gif" ContentType="image/gif"/>
  <Override PartName="/ppt/media/image69.jpeg" ContentType="image/jpeg"/>
  <Override PartName="/ppt/media/image86.gif" ContentType="image/gif"/>
  <Override PartName="/ppt/media/image89.png" ContentType="image/png"/>
  <Override PartName="/ppt/media/image43.gif" ContentType="image/gif"/>
  <Override PartName="/ppt/media/image6.png" ContentType="image/png"/>
  <Override PartName="/ppt/media/image15.gif" ContentType="image/gif"/>
  <Override PartName="/ppt/media/image83.png" ContentType="image/png"/>
  <Override PartName="/ppt/media/image47.gif" ContentType="image/gif"/>
  <Override PartName="/ppt/media/image10.gif" ContentType="image/gif"/>
  <Override PartName="/ppt/media/image35.gif" ContentType="image/gif"/>
  <Override PartName="/ppt/media/image5.gif" ContentType="image/gif"/>
  <Override PartName="/ppt/media/image17.gif" ContentType="image/gif"/>
  <Override PartName="/ppt/media/image85.png" ContentType="image/png"/>
  <Override PartName="/ppt/media/image60.gif" ContentType="image/gif"/>
  <Override PartName="/ppt/media/image18.gif" ContentType="image/gif"/>
  <Override PartName="/ppt/media/image53.png" ContentType="image/png"/>
  <Override PartName="/ppt/media/image62.png" ContentType="image/png"/>
  <Override PartName="/ppt/media/image99.png" ContentType="image/png"/>
  <Override PartName="/ppt/media/image65.gif" ContentType="image/gif"/>
  <Override PartName="/ppt/media/image68.png" ContentType="image/png"/>
  <Override PartName="/ppt/media/image67.gif" ContentType="image/gif"/>
  <Override PartName="/ppt/media/image70.gif" ContentType="image/gif"/>
  <Override PartName="/ppt/media/image71.gif" ContentType="image/gif"/>
  <Override PartName="/ppt/media/image73.gif" ContentType="image/gif"/>
  <Override PartName="/ppt/media/image76.png" ContentType="image/png"/>
  <Override PartName="/ppt/media/image61.gif" ContentType="image/gif"/>
  <Override PartName="/ppt/media/image98.gif" ContentType="image/gif"/>
  <Override PartName="/ppt/media/image66.png" ContentType="image/png"/>
  <Override PartName="/ppt/media/image63.gif" ContentType="image/gif"/>
  <Override PartName="/ppt/media/image78.png" ContentType="image/png"/>
  <Override PartName="/ppt/media/image64.gif" ContentType="image/gif"/>
  <Override PartName="/ppt/media/image2.jpeg" ContentType="image/jpeg"/>
  <Override PartName="/ppt/media/image91.jpeg" ContentType="image/jpeg"/>
  <Override PartName="/ppt/media/image95.jpeg" ContentType="image/jpeg"/>
  <Override PartName="/ppt/media/image72.gif" ContentType="image/gif"/>
  <Override PartName="/ppt/media/image101.jpeg" ContentType="image/jpeg"/>
  <Override PartName="/ppt/media/image21.gif" ContentType="image/gif"/>
  <Override PartName="/ppt/media/image58.gif" ContentType="image/gif"/>
  <Override PartName="/ppt/media/image94.png" ContentType="image/png"/>
  <Override PartName="/ppt/media/image90.gif" ContentType="image/gif"/>
  <Override PartName="/ppt/media/image100.jpeg" ContentType="image/jpeg"/>
  <Override PartName="/ppt/media/image93.jpeg" ContentType="image/jpeg"/>
  <Override PartName="/ppt/media/image88.png" ContentType="image/png"/>
  <Override PartName="/ppt/media/image87.gif" ContentType="image/gif"/>
  <Override PartName="/ppt/media/image79.png" ContentType="image/png"/>
  <Override PartName="/ppt/media/image74.gif" ContentType="image/gif"/>
  <Override PartName="/ppt/media/image77.png" ContentType="image/png"/>
  <Override PartName="/ppt/media/image4.jpeg" ContentType="image/jpeg"/>
  <Override PartName="/ppt/media/image8.wmf" ContentType="image/x-wmf"/>
  <Override PartName="/ppt/media/image29.gif" ContentType="image/gif"/>
  <Override PartName="/ppt/media/image97.png" ContentType="image/png"/>
  <Override PartName="/ppt/media/image24.gif" ContentType="image/gif"/>
  <Override PartName="/ppt/media/image28.gif" ContentType="image/gif"/>
  <Override PartName="/ppt/media/image96.png" ContentType="image/png"/>
  <Override PartName="/ppt/media/image19.jpeg" ContentType="image/jpeg"/>
  <Override PartName="/ppt/media/image32.gif" ContentType="image/gif"/>
  <Override PartName="/ppt/media/image23.png" ContentType="image/png"/>
  <Override PartName="/ppt/media/image20.gif" ContentType="image/gif"/>
  <Override PartName="/ppt/media/image57.gif" ContentType="image/gif"/>
  <Override PartName="/ppt/media/image22.png" ContentType="image/png"/>
  <Override PartName="/ppt/media/image50.jpeg" ContentType="image/jpeg"/>
  <Override PartName="/ppt/media/image16.gif" ContentType="image/gif"/>
  <Override PartName="/ppt/media/image84.png" ContentType="image/png"/>
  <Override PartName="/ppt/media/image82.png" ContentType="image/png"/>
  <Override PartName="/ppt/media/image14.gif" ContentType="image/gif"/>
  <Override PartName="/ppt/media/image31.jpeg" ContentType="image/jpeg"/>
  <Override PartName="/ppt/media/image1.jpeg" ContentType="image/jpeg"/>
  <Override PartName="/ppt/media/image54.gif" ContentType="image/gif"/>
  <Override PartName="/ppt/media/image26.png" ContentType="image/png"/>
  <Override PartName="/ppt/media/image40.gif" ContentType="image/gif"/>
  <Override PartName="/ppt/media/image25.jpeg" ContentType="image/jpeg"/>
  <Override PartName="/ppt/media/image81.png" ContentType="image/png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242-408A-4C5A-8D6E-FE716B17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793-22F6-4BF7-AA02-0D857FE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A3E-8A46-476A-9B89-5990C900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184-69D4-4B48-B436-F4DA1106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BC4-08AD-4D32-B2D8-C17A1E61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377-1401-453A-A688-A78B786F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B69-411E-4947-A884-59301155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8A2-47EE-460E-8D1B-2A00257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884-25FB-4F16-834B-62162F3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B70-0F50-440C-8FF1-DBBFB75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411-C2BA-439E-B99B-7AB037B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EDA-A91B-480C-A0B2-82F79F75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564-2261-4996-82BC-58F576D7A38B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0.gif"/><Relationship Id="rId4" Type="http://schemas.openxmlformats.org/officeDocument/2006/relationships/image" Target="../media/image19.jpeg"/><Relationship Id="rId5" Type="http://schemas.openxmlformats.org/officeDocument/2006/relationships/image" Target="../media/image21.gif"/><Relationship Id="rId6" Type="http://schemas.openxmlformats.org/officeDocument/2006/relationships/image" Target="../media/image18.gif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" Target="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6.gif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" Target=""/><Relationship Id="rId4" Type="http://schemas.openxmlformats.org/officeDocument/2006/relationships/image" Target="../media/image37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38.gif"/><Relationship Id="rId5" Type="http://schemas.openxmlformats.org/officeDocument/2006/relationships/slide" Target=""/><Relationship Id="rId6" Type="http://schemas.openxmlformats.org/officeDocument/2006/relationships/image" Target="../media/image39.gif"/><Relationship Id="rId7" Type="http://schemas.openxmlformats.org/officeDocument/2006/relationships/slide" Target=""/><Relationship Id="rId8" Type="http://schemas.openxmlformats.org/officeDocument/2006/relationships/image" Target="../media/image40.gif"/><Relationship Id="rId9" Type="http://schemas.openxmlformats.org/officeDocument/2006/relationships/slide" Target=""/><Relationship Id="rId10" Type="http://schemas.openxmlformats.org/officeDocument/2006/relationships/image" Target="../media/image41.gif"/><Relationship Id="rId11" Type="http://schemas.openxmlformats.org/officeDocument/2006/relationships/slide" Target=""/><Relationship Id="rId12" Type="http://schemas.openxmlformats.org/officeDocument/2006/relationships/image" Target="../media/image42.gif"/><Relationship Id="rId13" Type="http://schemas.openxmlformats.org/officeDocument/2006/relationships/slide" Target=""/><Relationship Id="rId14" Type="http://schemas.openxmlformats.org/officeDocument/2006/relationships/image" Target="../media/image43.gif"/><Relationship Id="rId15" Type="http://schemas.openxmlformats.org/officeDocument/2006/relationships/slide" Target=""/><Relationship Id="rId16" Type="http://schemas.openxmlformats.org/officeDocument/2006/relationships/image" Target="../media/image44.gif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15.xml"/><Relationship Id="rId23" Type="http://schemas.openxmlformats.org/officeDocument/2006/relationships/slide" Target=""/><Relationship Id="rId24" Type="http://schemas.openxmlformats.org/officeDocument/2006/relationships/slide" Target="slide2.xml"/><Relationship Id="rId25" Type="http://schemas.openxmlformats.org/officeDocument/2006/relationships/slide" Target=""/><Relationship Id="rId26" Type="http://schemas.openxmlformats.org/officeDocument/2006/relationships/slide" Target="slide14.xml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39.gif"/><Relationship Id="rId8" Type="http://schemas.openxmlformats.org/officeDocument/2006/relationships/image" Target="../media/image42.gif"/><Relationship Id="rId9" Type="http://schemas.openxmlformats.org/officeDocument/2006/relationships/image" Target="../media/image44.gif"/><Relationship Id="rId10" Type="http://schemas.openxmlformats.org/officeDocument/2006/relationships/image" Target="../media/image40.gif"/><Relationship Id="rId11" Type="http://schemas.openxmlformats.org/officeDocument/2006/relationships/image" Target="../media/image43.gif"/><Relationship Id="rId12" Type="http://schemas.openxmlformats.org/officeDocument/2006/relationships/image" Target="../media/image41.gif"/><Relationship Id="rId13" Type="http://schemas.openxmlformats.org/officeDocument/2006/relationships/image" Target="../media/image38.gif"/><Relationship Id="rId14" Type="http://schemas.openxmlformats.org/officeDocument/2006/relationships/slide" Target=""/><Relationship Id="rId15" Type="http://schemas.openxmlformats.org/officeDocument/2006/relationships/slide" Target="slide16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6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slide" Target="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7.xml"/><Relationship Id="rId24" Type="http://schemas.openxmlformats.org/officeDocument/2006/relationships/slide" Target="slide17.xml"/><Relationship Id="rId25" Type="http://schemas.openxmlformats.org/officeDocument/2006/relationships/slide" Target="slide17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7.xml"/><Relationship Id="rId36" Type="http://schemas.openxmlformats.org/officeDocument/2006/relationships/slide" Target="slide18.xml"/><Relationship Id="rId37" Type="http://schemas.openxmlformats.org/officeDocument/2006/relationships/slide" Target="slide18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7.xml"/><Relationship Id="rId42" Type="http://schemas.openxmlformats.org/officeDocument/2006/relationships/slide" Target="slide18.xml"/><Relationship Id="rId43" Type="http://schemas.openxmlformats.org/officeDocument/2006/relationships/slide" Target="slide18.xml"/><Relationship Id="rId44" Type="http://schemas.openxmlformats.org/officeDocument/2006/relationships/slide" Target="slide18.xml"/><Relationship Id="rId45" Type="http://schemas.openxmlformats.org/officeDocument/2006/relationships/slide" Target="slide18.xml"/><Relationship Id="rId46" Type="http://schemas.openxmlformats.org/officeDocument/2006/relationships/slide" Target="slide18.xml"/><Relationship Id="rId47" Type="http://schemas.openxmlformats.org/officeDocument/2006/relationships/slide" Target="slide18.xml"/><Relationship Id="rId48" Type="http://schemas.openxmlformats.org/officeDocument/2006/relationships/slide" Target="slide18.xml"/><Relationship Id="rId49" Type="http://schemas.openxmlformats.org/officeDocument/2006/relationships/slide" Target="slide17.xml"/><Relationship Id="rId50" Type="http://schemas.openxmlformats.org/officeDocument/2006/relationships/slide" Target="slide18.xml"/><Relationship Id="rId51" Type="http://schemas.openxmlformats.org/officeDocument/2006/relationships/slide" Target="slide18.xml"/><Relationship Id="rId52" Type="http://schemas.openxmlformats.org/officeDocument/2006/relationships/slide" Target=""/><Relationship Id="rId53" Type="http://schemas.openxmlformats.org/officeDocument/2006/relationships/slide" Target="slide2.xml"/><Relationship Id="rId5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9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4.xml"/><Relationship Id="rId8" Type="http://schemas.openxmlformats.org/officeDocument/2006/relationships/slide" Target="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1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3.png"/><Relationship Id="rId9" Type="http://schemas.openxmlformats.org/officeDocument/2006/relationships/slide" Target="slide21.xml"/><Relationship Id="rId10" Type="http://schemas.openxmlformats.org/officeDocument/2006/relationships/image" Target="../media/image3.png"/><Relationship Id="rId11" Type="http://schemas.openxmlformats.org/officeDocument/2006/relationships/slide" Target="slide26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2.wmf"/><Relationship Id="rId4" Type="http://schemas.openxmlformats.org/officeDocument/2006/relationships/slide" Target=""/><Relationship Id="rId5" Type="http://schemas.openxmlformats.org/officeDocument/2006/relationships/slide" Target="slide13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53.png"/><Relationship Id="rId3" Type="http://schemas.openxmlformats.org/officeDocument/2006/relationships/image" Target="../media/image15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image" Target="../media/image57.gif"/><Relationship Id="rId8" Type="http://schemas.openxmlformats.org/officeDocument/2006/relationships/image" Target="../media/image58.gif"/><Relationship Id="rId9" Type="http://schemas.openxmlformats.org/officeDocument/2006/relationships/image" Target="../media/image59.gif"/><Relationship Id="rId10" Type="http://schemas.openxmlformats.org/officeDocument/2006/relationships/image" Target="../media/image60.gif"/><Relationship Id="rId11" Type="http://schemas.openxmlformats.org/officeDocument/2006/relationships/image" Target="../media/image60.gif"/><Relationship Id="rId12" Type="http://schemas.openxmlformats.org/officeDocument/2006/relationships/image" Target="../media/image54.gif"/><Relationship Id="rId13" Type="http://schemas.openxmlformats.org/officeDocument/2006/relationships/image" Target="../media/image54.gif"/><Relationship Id="rId14" Type="http://schemas.openxmlformats.org/officeDocument/2006/relationships/image" Target="../media/image54.gif"/><Relationship Id="rId15" Type="http://schemas.openxmlformats.org/officeDocument/2006/relationships/image" Target="../media/image56.gif"/><Relationship Id="rId16" Type="http://schemas.openxmlformats.org/officeDocument/2006/relationships/image" Target="../media/image56.gif"/><Relationship Id="rId17" Type="http://schemas.openxmlformats.org/officeDocument/2006/relationships/image" Target="../media/image61.gif"/><Relationship Id="rId18" Type="http://schemas.openxmlformats.org/officeDocument/2006/relationships/image" Target="../media/image57.gif"/><Relationship Id="rId19" Type="http://schemas.openxmlformats.org/officeDocument/2006/relationships/image" Target="../media/image57.gif"/><Relationship Id="rId20" Type="http://schemas.openxmlformats.org/officeDocument/2006/relationships/image" Target="../media/image57.gif"/><Relationship Id="rId21" Type="http://schemas.openxmlformats.org/officeDocument/2006/relationships/image" Target="../media/image58.gif"/><Relationship Id="rId22" Type="http://schemas.openxmlformats.org/officeDocument/2006/relationships/image" Target="../media/image58.gif"/><Relationship Id="rId23" Type="http://schemas.openxmlformats.org/officeDocument/2006/relationships/image" Target="../media/image59.gif"/><Relationship Id="rId24" Type="http://schemas.openxmlformats.org/officeDocument/2006/relationships/image" Target="../media/image59.gif"/><Relationship Id="rId25" Type="http://schemas.openxmlformats.org/officeDocument/2006/relationships/slide" Target=""/><Relationship Id="rId26" Type="http://schemas.openxmlformats.org/officeDocument/2006/relationships/slide" Target="slide22.xml"/><Relationship Id="rId27" Type="http://schemas.openxmlformats.org/officeDocument/2006/relationships/slide" Target="slide21.xml"/><Relationship Id="rId28" Type="http://schemas.openxmlformats.org/officeDocument/2006/relationships/image" Target="../media/image3.png"/><Relationship Id="rId29" Type="http://schemas.openxmlformats.org/officeDocument/2006/relationships/slide" Target="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62.pn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62.png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image" Target="../media/image63.gif"/><Relationship Id="rId22" Type="http://schemas.openxmlformats.org/officeDocument/2006/relationships/slide" Target=""/><Relationship Id="rId23" Type="http://schemas.openxmlformats.org/officeDocument/2006/relationships/image" Target="../media/image64.gif"/><Relationship Id="rId24" Type="http://schemas.openxmlformats.org/officeDocument/2006/relationships/slide" Target=""/><Relationship Id="rId25" Type="http://schemas.openxmlformats.org/officeDocument/2006/relationships/image" Target="../media/image64.gif"/><Relationship Id="rId26" Type="http://schemas.openxmlformats.org/officeDocument/2006/relationships/slide" Target=""/><Relationship Id="rId27" Type="http://schemas.openxmlformats.org/officeDocument/2006/relationships/image" Target="../media/image65.gif"/><Relationship Id="rId28" Type="http://schemas.openxmlformats.org/officeDocument/2006/relationships/slide" Target="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6.png"/><Relationship Id="rId3" Type="http://schemas.openxmlformats.org/officeDocument/2006/relationships/slide" Target=""/><Relationship Id="rId4" Type="http://schemas.openxmlformats.org/officeDocument/2006/relationships/image" Target="../media/image67.gif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8.png"/><Relationship Id="rId3" Type="http://schemas.openxmlformats.org/officeDocument/2006/relationships/slide" Target="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9.jpeg"/><Relationship Id="rId3" Type="http://schemas.openxmlformats.org/officeDocument/2006/relationships/slide" Target=""/><Relationship Id="rId4" Type="http://schemas.openxmlformats.org/officeDocument/2006/relationships/image" Target="../media/image70.gi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slide" Target="slide27.xml"/><Relationship Id="rId5" Type="http://schemas.openxmlformats.org/officeDocument/2006/relationships/slide" Target=""/><Relationship Id="rId6" Type="http://schemas.openxmlformats.org/officeDocument/2006/relationships/slide" Target="slide33.xml"/><Relationship Id="rId7" Type="http://schemas.openxmlformats.org/officeDocument/2006/relationships/slide" Target=""/><Relationship Id="rId8" Type="http://schemas.openxmlformats.org/officeDocument/2006/relationships/slide" Target="slide30.xml"/><Relationship Id="rId9" Type="http://schemas.openxmlformats.org/officeDocument/2006/relationships/image" Target="../media/image71.gif"/><Relationship Id="rId10" Type="http://schemas.openxmlformats.org/officeDocument/2006/relationships/image" Target="../media/image72.gif"/><Relationship Id="rId11" Type="http://schemas.openxmlformats.org/officeDocument/2006/relationships/image" Target="../media/image71.gif"/><Relationship Id="rId12" Type="http://schemas.openxmlformats.org/officeDocument/2006/relationships/image" Target="../media/image73.gif"/><Relationship Id="rId13" Type="http://schemas.openxmlformats.org/officeDocument/2006/relationships/image" Target="../media/image73.gif"/><Relationship Id="rId14" Type="http://schemas.openxmlformats.org/officeDocument/2006/relationships/image" Target="../media/image73.gif"/><Relationship Id="rId15" Type="http://schemas.openxmlformats.org/officeDocument/2006/relationships/image" Target="../media/image54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3.png"/><Relationship Id="rId19" Type="http://schemas.openxmlformats.org/officeDocument/2006/relationships/slide" Target="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5.jpeg"/><Relationship Id="rId3" Type="http://schemas.openxmlformats.org/officeDocument/2006/relationships/slide" Target=""/><Relationship Id="rId4" Type="http://schemas.openxmlformats.org/officeDocument/2006/relationships/image" Target="../media/image76.png"/><Relationship Id="rId5" Type="http://schemas.openxmlformats.org/officeDocument/2006/relationships/slide" Target=""/><Relationship Id="rId6" Type="http://schemas.openxmlformats.org/officeDocument/2006/relationships/image" Target="../media/image77.png"/><Relationship Id="rId7" Type="http://schemas.openxmlformats.org/officeDocument/2006/relationships/slide" Target=""/><Relationship Id="rId8" Type="http://schemas.openxmlformats.org/officeDocument/2006/relationships/image" Target="../media/image78.png"/><Relationship Id="rId9" Type="http://schemas.openxmlformats.org/officeDocument/2006/relationships/slide" Target=""/><Relationship Id="rId10" Type="http://schemas.openxmlformats.org/officeDocument/2006/relationships/image" Target="../media/image79.png"/><Relationship Id="rId11" Type="http://schemas.openxmlformats.org/officeDocument/2006/relationships/slide" Target=""/><Relationship Id="rId12" Type="http://schemas.openxmlformats.org/officeDocument/2006/relationships/image" Target="../media/image80.png"/><Relationship Id="rId13" Type="http://schemas.openxmlformats.org/officeDocument/2006/relationships/slide" Target=""/><Relationship Id="rId14" Type="http://schemas.openxmlformats.org/officeDocument/2006/relationships/image" Target="../media/image81.png"/><Relationship Id="rId15" Type="http://schemas.openxmlformats.org/officeDocument/2006/relationships/slide" Target=""/><Relationship Id="rId16" Type="http://schemas.openxmlformats.org/officeDocument/2006/relationships/image" Target="../media/image82.png"/><Relationship Id="rId17" Type="http://schemas.openxmlformats.org/officeDocument/2006/relationships/slide" Target=""/><Relationship Id="rId18" Type="http://schemas.openxmlformats.org/officeDocument/2006/relationships/image" Target="../media/image83.png"/><Relationship Id="rId19" Type="http://schemas.openxmlformats.org/officeDocument/2006/relationships/slide" Target=""/><Relationship Id="rId20" Type="http://schemas.openxmlformats.org/officeDocument/2006/relationships/image" Target="../media/image84.png"/><Relationship Id="rId21" Type="http://schemas.openxmlformats.org/officeDocument/2006/relationships/slide" Target=""/><Relationship Id="rId22" Type="http://schemas.openxmlformats.org/officeDocument/2006/relationships/slide" Target="slide28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slide" Target="slide30.xml"/><Relationship Id="rId3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png"/><Relationship Id="rId3" Type="http://schemas.openxmlformats.org/officeDocument/2006/relationships/image" Target="../media/image86.gif"/><Relationship Id="rId4" Type="http://schemas.openxmlformats.org/officeDocument/2006/relationships/image" Target="../media/image87.gif"/><Relationship Id="rId5" Type="http://schemas.openxmlformats.org/officeDocument/2006/relationships/slide" Target=""/><Relationship Id="rId6" Type="http://schemas.openxmlformats.org/officeDocument/2006/relationships/slide" Target="slide26.xml"/><Relationship Id="rId7" Type="http://schemas.openxmlformats.org/officeDocument/2006/relationships/slide" Target="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slide" Target="slide10.xml"/><Relationship Id="rId17" Type="http://schemas.openxmlformats.org/officeDocument/2006/relationships/image" Target="../media/image9.gif"/><Relationship Id="rId18" Type="http://schemas.openxmlformats.org/officeDocument/2006/relationships/image" Target="../media/image10.gif"/><Relationship Id="rId19" Type="http://schemas.openxmlformats.org/officeDocument/2006/relationships/image" Target="../media/image11.gif"/><Relationship Id="rId20" Type="http://schemas.openxmlformats.org/officeDocument/2006/relationships/image" Target="../media/image12.gif"/><Relationship Id="rId21" Type="http://schemas.openxmlformats.org/officeDocument/2006/relationships/image" Target="../media/image13.gif"/><Relationship Id="rId22" Type="http://schemas.openxmlformats.org/officeDocument/2006/relationships/image" Target="../media/image14.gif"/><Relationship Id="rId23" Type="http://schemas.openxmlformats.org/officeDocument/2006/relationships/image" Target="../media/image15.gif"/><Relationship Id="rId24" Type="http://schemas.openxmlformats.org/officeDocument/2006/relationships/image" Target="../media/image16.gif"/><Relationship Id="rId25" Type="http://schemas.openxmlformats.org/officeDocument/2006/relationships/image" Target="../media/image17.gif"/><Relationship Id="rId26" Type="http://schemas.openxmlformats.org/officeDocument/2006/relationships/image" Target="../media/image18.gif"/><Relationship Id="rId27" Type="http://schemas.openxmlformats.org/officeDocument/2006/relationships/image" Target="../media/image19.jpeg"/><Relationship Id="rId28" Type="http://schemas.openxmlformats.org/officeDocument/2006/relationships/image" Target="../media/image20.gif"/><Relationship Id="rId29" Type="http://schemas.openxmlformats.org/officeDocument/2006/relationships/image" Target="../media/image21.gif"/><Relationship Id="rId30" Type="http://schemas.openxmlformats.org/officeDocument/2006/relationships/image" Target="../media/image2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8.png"/><Relationship Id="rId4" Type="http://schemas.openxmlformats.org/officeDocument/2006/relationships/slide" Target="slide31.xml"/><Relationship Id="rId5" Type="http://schemas.openxmlformats.org/officeDocument/2006/relationships/image" Target="../media/image89.png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90.gif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33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91.jpeg"/><Relationship Id="rId3" Type="http://schemas.openxmlformats.org/officeDocument/2006/relationships/slide" Target="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2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6.xml"/><Relationship Id="rId7" Type="http://schemas.openxmlformats.org/officeDocument/2006/relationships/slide" Target=""/><Relationship Id="rId8" Type="http://schemas.openxmlformats.org/officeDocument/2006/relationships/slide" Target="slide30.xml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3.jpeg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" Target="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4.xml"/><Relationship Id="rId12" Type="http://schemas.openxmlformats.org/officeDocument/2006/relationships/slide" Target="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"/><Relationship Id="rId16" Type="http://schemas.openxmlformats.org/officeDocument/2006/relationships/slide" Target="slide36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"/><Relationship Id="rId3" Type="http://schemas.openxmlformats.org/officeDocument/2006/relationships/image" Target="../media/image95.jpeg"/><Relationship Id="rId4" Type="http://schemas.openxmlformats.org/officeDocument/2006/relationships/image" Target="../media/image96.png"/><Relationship Id="rId5" Type="http://schemas.openxmlformats.org/officeDocument/2006/relationships/slide" Target=""/><Relationship Id="rId6" Type="http://schemas.openxmlformats.org/officeDocument/2006/relationships/image" Target="../media/image95.jpeg"/><Relationship Id="rId7" Type="http://schemas.openxmlformats.org/officeDocument/2006/relationships/slide" Target=""/><Relationship Id="rId8" Type="http://schemas.openxmlformats.org/officeDocument/2006/relationships/image" Target="../media/image95.jpeg"/><Relationship Id="rId9" Type="http://schemas.openxmlformats.org/officeDocument/2006/relationships/slide" Target=""/><Relationship Id="rId10" Type="http://schemas.openxmlformats.org/officeDocument/2006/relationships/image" Target="../media/image95.jpeg"/><Relationship Id="rId11" Type="http://schemas.openxmlformats.org/officeDocument/2006/relationships/image" Target="../media/image97.png"/><Relationship Id="rId12" Type="http://schemas.openxmlformats.org/officeDocument/2006/relationships/image" Target="../media/image96.png"/><Relationship Id="rId13" Type="http://schemas.openxmlformats.org/officeDocument/2006/relationships/image" Target="../media/image97.png"/><Relationship Id="rId14" Type="http://schemas.openxmlformats.org/officeDocument/2006/relationships/image" Target="../media/image96.png"/><Relationship Id="rId15" Type="http://schemas.openxmlformats.org/officeDocument/2006/relationships/image" Target="../media/image97.png"/><Relationship Id="rId16" Type="http://schemas.openxmlformats.org/officeDocument/2006/relationships/slide" Target=""/><Relationship Id="rId17" Type="http://schemas.openxmlformats.org/officeDocument/2006/relationships/image" Target="../media/image98.gif"/><Relationship Id="rId18" Type="http://schemas.openxmlformats.org/officeDocument/2006/relationships/slide" Target=""/><Relationship Id="rId19" Type="http://schemas.openxmlformats.org/officeDocument/2006/relationships/slide" Target="slide33.xml"/><Relationship Id="rId2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" Target="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4.gif"/><Relationship Id="rId5" Type="http://schemas.openxmlformats.org/officeDocument/2006/relationships/image" Target="../media/image10.gif"/><Relationship Id="rId6" Type="http://schemas.openxmlformats.org/officeDocument/2006/relationships/image" Target="../media/image15.gif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image" Target="../media/image13.gif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6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" Target="slide2.xml"/><Relationship Id="rId28" Type="http://schemas.openxmlformats.org/officeDocument/2006/relationships/slide" Target="slide7.xm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4.gif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image" Target="../media/image26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image" Target="../media/image22.png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27.gif"/><Relationship Id="rId19" Type="http://schemas.openxmlformats.org/officeDocument/2006/relationships/image" Target="../media/image28.gif"/><Relationship Id="rId20" Type="http://schemas.openxmlformats.org/officeDocument/2006/relationships/image" Target="../media/image29.gif"/><Relationship Id="rId21" Type="http://schemas.openxmlformats.org/officeDocument/2006/relationships/slide" Target=""/><Relationship Id="rId22" Type="http://schemas.openxmlformats.org/officeDocument/2006/relationships/slide" Target="slide2.xml"/><Relationship Id="rId23" Type="http://schemas.openxmlformats.org/officeDocument/2006/relationships/slide" Target=""/><Relationship Id="rId24" Type="http://schemas.openxmlformats.org/officeDocument/2006/relationships/slide" Target="slide10.xml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" Target=""/><Relationship Id="rId4" Type="http://schemas.openxmlformats.org/officeDocument/2006/relationships/image" Target="../media/image31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32.gif"/><Relationship Id="rId9" Type="http://schemas.openxmlformats.org/officeDocument/2006/relationships/slide" Target=""/><Relationship Id="rId10" Type="http://schemas.openxmlformats.org/officeDocument/2006/relationships/image" Target="../media/image32.gif"/><Relationship Id="rId11" Type="http://schemas.openxmlformats.org/officeDocument/2006/relationships/slide" Target=""/><Relationship Id="rId12" Type="http://schemas.openxmlformats.org/officeDocument/2006/relationships/slide" Target="slide7.xml"/><Relationship Id="rId13" Type="http://schemas.openxmlformats.org/officeDocument/2006/relationships/slide" Target="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3.jpeg"/><Relationship Id="rId3" Type="http://schemas.openxmlformats.org/officeDocument/2006/relationships/slide" Target=""/><Relationship Id="rId4" Type="http://schemas.openxmlformats.org/officeDocument/2006/relationships/image" Target="../media/image3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35.gif"/><Relationship Id="rId8" Type="http://schemas.openxmlformats.org/officeDocument/2006/relationships/slide" Target="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38862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68580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BSTANTIVU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458200" cy="2128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numim fenomene ale natur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0" y="609480"/>
            <a:ext cx="178272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172200" y="609480"/>
            <a:ext cx="2133720" cy="1165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9480" y="685800"/>
            <a:ext cx="1257480" cy="1055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495680" y="60948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xerciţ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lectează cuvintele care denumesc fenomene ale natur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429000"/>
            <a:ext cx="152424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7" action="ppaction://hlinksldjump"/>
              </a:rPr>
              <a:t>zăpad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vis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calori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0" action="ppaction://hlinksldjump"/>
              </a:rPr>
              <a:t>brum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1" action="ppaction://hlinksldjump"/>
              </a:rPr>
              <a:t>tu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505320"/>
            <a:ext cx="182880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2" action="ppaction://hlinksldjump"/>
              </a:rPr>
              <a:t>iarb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3" action="ppaction://hlinksldjump"/>
              </a:rPr>
              <a:t>chiciur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4" action="ppaction://hlinksldjump"/>
              </a:rPr>
              <a:t>Co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5" action="ppaction://hlinksldjump"/>
              </a:rPr>
              <a:t>cea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po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oa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â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nso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cu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7" action="ppaction://hlinksldjump"/>
          </p:cNvPr>
          <p:cNvSpPr/>
          <p:nvPr/>
        </p:nvSpPr>
        <p:spPr>
          <a:xfrm>
            <a:off x="304920" y="6019920"/>
            <a:ext cx="114300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066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8" action="ppaction://hlinksldjump"/>
              </a:rPr>
              <a:t>Înap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9" action="ppaction://hlinksldjump"/>
          </p:cNvPr>
          <p:cNvSpPr/>
          <p:nvPr/>
        </p:nvSpPr>
        <p:spPr>
          <a:xfrm>
            <a:off x="7467480" y="5943600"/>
            <a:ext cx="121932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066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0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0"/>
            <a:ext cx="3200400" cy="838080"/>
          </a:xfrm>
          <a:prstGeom prst="cloudCallout">
            <a:avLst>
              <a:gd name="adj1" fmla="val 51787"/>
              <a:gd name="adj2" fmla="val 1299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GREŞ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28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GREŞ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794800">
            <a:off x="6167880" y="2974680"/>
            <a:ext cx="34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GRRRREŞ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 rot="3600">
            <a:off x="7086600" y="5105160"/>
            <a:ext cx="2057400" cy="459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33cc33"/>
              </a:gs>
              <a:gs pos="100000">
                <a:srgbClr val="9966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ă repet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228600" y="4572000"/>
            <a:ext cx="2057400" cy="577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6600"/>
              </a:gs>
              <a:gs pos="100000">
                <a:srgbClr val="ff9900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609480"/>
            <a:ext cx="4267080" cy="3111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5" action="ppaction://hlinksldjump"/>
          </p:cNvPr>
          <p:cNvSpPr/>
          <p:nvPr/>
        </p:nvSpPr>
        <p:spPr>
          <a:xfrm rot="18874200">
            <a:off x="-36720" y="1525680"/>
            <a:ext cx="27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elicitări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6" action="ppaction://hlinksldjump"/>
          </p:cNvPr>
          <p:cNvSpPr/>
          <p:nvPr/>
        </p:nvSpPr>
        <p:spPr>
          <a:xfrm>
            <a:off x="1981080" y="4876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Îngerul bun este cu ti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7" action="ppaction://hlinksldjump"/>
          </p:cNvPr>
          <p:cNvSpPr/>
          <p:nvPr/>
        </p:nvSpPr>
        <p:spPr>
          <a:xfrm>
            <a:off x="457200" y="5775480"/>
            <a:ext cx="2133720" cy="785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3333cc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ec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-76320" y="0"/>
            <a:ext cx="9144000" cy="1311840"/>
            <a:chOff x="-76320" y="0"/>
            <a:chExt cx="9144000" cy="131184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95280" y="120600"/>
              <a:ext cx="36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Monotype Corsiva"/>
                </a:rPr>
                <a:t>Felul substantivelor 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38280" y="1752480"/>
            <a:ext cx="1163880" cy="1649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9320" y="4876920"/>
            <a:ext cx="1211040" cy="1390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200400"/>
            <a:ext cx="1415880" cy="1432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71600" y="175248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3809880"/>
            <a:ext cx="2362320" cy="1817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2133720"/>
            <a:ext cx="1620720" cy="175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590920" y="4572000"/>
            <a:ext cx="12906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2193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Unele substantive denumesc obiecte de acelaşi 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ăr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7" action="ppaction://hlinksldjump"/>
          </p:cNvPr>
          <p:cNvSpPr/>
          <p:nvPr/>
        </p:nvSpPr>
        <p:spPr>
          <a:xfrm>
            <a:off x="41148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e o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numire comună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pentru fiecare din persoanele prezen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UBSTANTIV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900480" y="664920"/>
            <a:ext cx="1286640" cy="15084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8" action="ppaction://hlinksldjump"/>
          </p:cNvPr>
          <p:cNvSpPr/>
          <p:nvPr/>
        </p:nvSpPr>
        <p:spPr>
          <a:xfrm>
            <a:off x="4495680" y="2927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comune se scriu cu literă iniţială mare numai dacă se află la începutul propoziţi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9" action="ppaction://hlinksldjump"/>
          </p:cNvPr>
          <p:cNvSpPr/>
          <p:nvPr/>
        </p:nvSpPr>
        <p:spPr>
          <a:xfrm>
            <a:off x="4419720" y="41148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eşte, cocor, hotel, vapor, magazin, jucărie, furtună, p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0" action="ppaction://hlinksldjump"/>
          </p:cNvPr>
          <p:cNvSpPr/>
          <p:nvPr/>
        </p:nvSpPr>
        <p:spPr>
          <a:xfrm>
            <a:off x="4114800" y="4878360"/>
            <a:ext cx="495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ăprioara, vulpea, ursul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ăiesc în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ă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pa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n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ahar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rece ca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heaţ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antivul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ăr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1" action="ppaction://hlinksldjump"/>
          </p:cNvPr>
          <p:cNvSpPr/>
          <p:nvPr/>
        </p:nvSpPr>
        <p:spPr>
          <a:xfrm>
            <a:off x="7772400" y="1219320"/>
            <a:ext cx="1371600" cy="577080"/>
          </a:xfrm>
          <a:prstGeom prst="rect">
            <a:avLst/>
          </a:prstGeom>
          <a:noFill/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2" action="ppaction://hlinksldjump"/>
              </a:rPr>
              <a:t>Exerciţ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3" action="ppaction://hlinksldjump"/>
          </p:cNvPr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5" action="ppaction://hlinksldjump"/>
          </p:cNvPr>
          <p:cNvSpPr/>
          <p:nvPr/>
        </p:nvSpPr>
        <p:spPr>
          <a:xfrm>
            <a:off x="6781680" y="6262560"/>
            <a:ext cx="2057400" cy="57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6" action="ppaction://hlinksldjump"/>
              </a:rPr>
              <a:t>Mai depar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0033cc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1311840"/>
            <a:chOff x="0" y="0"/>
            <a:chExt cx="9144000" cy="1311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71600" y="120600"/>
              <a:ext cx="36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Monotype Corsiva"/>
                </a:rPr>
                <a:t>Felul substantivelor 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320" y="1066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lte substantive denumesc anumite obiecte pentru a le deosebi de cele de acelaşi 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UBSTANTIV PROP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495680" y="2927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proprii se scriu totdeauna cu literă iniţială 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4419720" y="3733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2400" spc="-1" strike="noStrike">
                <a:solidFill>
                  <a:srgbClr val="ff33cc"/>
                </a:solidFill>
                <a:latin typeface="Times New Roman"/>
              </a:rPr>
              <a:t>Adrian, Ungaria, Zdreanţă, “Libertatea”, “Daewoo” “Dumbrava minunat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4267080" y="487692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Anglia, Germania, Olanda, România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ţări din</a:t>
            </a: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Azorel, Coco, Pufi şi Joiana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animalele mele prefe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3352680" y="1981080"/>
            <a:ext cx="5791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estea sunt denumiri personale,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oprii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tru fiecare persoană prezentat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371600" y="5070600"/>
            <a:ext cx="1211040" cy="1789920"/>
            <a:chOff x="1371600" y="5070600"/>
            <a:chExt cx="1211040" cy="1789920"/>
          </a:xfrm>
        </p:grpSpPr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371600" y="5070600"/>
              <a:ext cx="1211040" cy="15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71600" y="6400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304920" y="2514600"/>
            <a:ext cx="2362320" cy="1817640"/>
            <a:chOff x="-304920" y="2514600"/>
            <a:chExt cx="2362320" cy="1817640"/>
          </a:xfrm>
        </p:grpSpPr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-304920" y="2514600"/>
              <a:ext cx="236232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28600" y="38163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s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590920" y="4572000"/>
            <a:ext cx="1600200" cy="2288520"/>
            <a:chOff x="2590920" y="4572000"/>
            <a:chExt cx="1600200" cy="2288520"/>
          </a:xfrm>
        </p:grpSpPr>
        <p:pic>
          <p:nvPicPr>
            <p:cNvPr id="225" name="" descr=""/>
            <p:cNvPicPr/>
            <p:nvPr/>
          </p:nvPicPr>
          <p:blipFill>
            <a:blip r:embed="rId9"/>
            <a:stretch/>
          </p:blipFill>
          <p:spPr>
            <a:xfrm>
              <a:off x="2590920" y="4572000"/>
              <a:ext cx="12906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43200" y="6400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8120" y="3200400"/>
            <a:ext cx="1415880" cy="1602720"/>
            <a:chOff x="3048120" y="3200400"/>
            <a:chExt cx="1415880" cy="1602720"/>
          </a:xfrm>
        </p:grpSpPr>
        <p:pic>
          <p:nvPicPr>
            <p:cNvPr id="228" name="" descr=""/>
            <p:cNvPicPr/>
            <p:nvPr/>
          </p:nvPicPr>
          <p:blipFill>
            <a:blip r:embed="rId10"/>
            <a:stretch/>
          </p:blipFill>
          <p:spPr>
            <a:xfrm>
              <a:off x="3048120" y="3200400"/>
              <a:ext cx="141588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4290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33cc"/>
                  </a:solidFill>
                  <a:latin typeface="Times New Roman"/>
                </a:rPr>
                <a:t>I</a:t>
              </a:r>
              <a:r>
                <a:rPr b="0" lang="ro-RO" sz="2400" spc="-1" strike="noStrike">
                  <a:solidFill>
                    <a:srgbClr val="000000"/>
                  </a:solidFill>
                  <a:latin typeface="Times New Roman"/>
                </a:rPr>
                <a:t>l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 flipV="1">
            <a:off x="8800560" y="600480"/>
            <a:ext cx="1080" cy="14655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3962520"/>
            <a:ext cx="1620720" cy="1752480"/>
            <a:chOff x="0" y="3962520"/>
            <a:chExt cx="1620720" cy="175248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1620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7726400">
              <a:off x="1440" y="4418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5920" y="1562400"/>
            <a:ext cx="1652400" cy="1545840"/>
            <a:chOff x="655920" y="1562400"/>
            <a:chExt cx="1652400" cy="1545840"/>
          </a:xfrm>
        </p:grpSpPr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1371600" y="1752480"/>
              <a:ext cx="9367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9173000">
              <a:off x="686520" y="182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ha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62880" y="1527120"/>
            <a:ext cx="1439280" cy="1874880"/>
            <a:chOff x="2162880" y="1527120"/>
            <a:chExt cx="1439280" cy="1874880"/>
          </a:xfrm>
        </p:grpSpPr>
        <p:pic>
          <p:nvPicPr>
            <p:cNvPr id="238" name="" descr=""/>
            <p:cNvPicPr/>
            <p:nvPr/>
          </p:nvPicPr>
          <p:blipFill>
            <a:blip r:embed="rId13"/>
            <a:stretch/>
          </p:blipFill>
          <p:spPr>
            <a:xfrm>
              <a:off x="2438280" y="1752480"/>
              <a:ext cx="116388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9433400">
              <a:off x="2210400" y="1752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33cc"/>
                  </a:solidFill>
                  <a:latin typeface="Times New Roman"/>
                </a:rPr>
                <a:t>G</a:t>
              </a:r>
              <a:r>
                <a:rPr b="0" lang="ro-RO" sz="2400" spc="-1" strike="noStrike">
                  <a:solidFill>
                    <a:srgbClr val="000000"/>
                  </a:solidFill>
                  <a:latin typeface="Times New Roman"/>
                </a:rPr>
                <a:t>i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14" action="ppaction://hlinksldjump"/>
          </p:cNvPr>
          <p:cNvSpPr/>
          <p:nvPr/>
        </p:nvSpPr>
        <p:spPr>
          <a:xfrm>
            <a:off x="7696080" y="1523880"/>
            <a:ext cx="1219320" cy="510120"/>
          </a:xfrm>
          <a:prstGeom prst="rect">
            <a:avLst/>
          </a:prstGeom>
          <a:noFill/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15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380880" y="5883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jută-l pe delfinul Fifi să aleagă inelele în interiorul cărora se află propoziţii care conţin numai substantive comu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CONTINUĂ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-360"/>
            <a:ext cx="2819520" cy="2667240"/>
            <a:chOff x="0" y="-360"/>
            <a:chExt cx="2819520" cy="2667240"/>
          </a:xfrm>
        </p:grpSpPr>
        <p:grpSp>
          <p:nvGrpSpPr>
            <p:cNvPr id="247" name=""/>
            <p:cNvGrpSpPr/>
            <p:nvPr/>
          </p:nvGrpSpPr>
          <p:grpSpPr>
            <a:xfrm>
              <a:off x="0" y="304920"/>
              <a:ext cx="2819520" cy="2361960"/>
              <a:chOff x="0" y="304920"/>
              <a:chExt cx="2819520" cy="23619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04920"/>
                <a:ext cx="2819520" cy="2361960"/>
              </a:xfrm>
              <a:prstGeom prst="ellipse">
                <a:avLst/>
              </a:prstGeom>
              <a:gradFill rotWithShape="0">
                <a:gsLst>
                  <a:gs pos="0">
                    <a:srgbClr val="acace9"/>
                  </a:gs>
                  <a:gs pos="100000">
                    <a:srgbClr val="3333cc"/>
                  </a:gs>
                </a:gsLst>
                <a:lin ang="13500000"/>
              </a:gra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920" y="380880"/>
                <a:ext cx="226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 action="ppaction://hlinksldjump"/>
                  </a:rPr>
                  <a:t>Veveriţa     aduce alune, nuci şi ghinde  în vizuina din bătrânul stejar.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 action="ppaction://hlinksldjump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1371600" y="-360"/>
              <a:ext cx="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05320" y="0"/>
            <a:ext cx="2590560" cy="2666880"/>
            <a:chOff x="3505320" y="0"/>
            <a:chExt cx="2590560" cy="2666880"/>
          </a:xfrm>
        </p:grpSpPr>
        <p:grpSp>
          <p:nvGrpSpPr>
            <p:cNvPr id="252" name=""/>
            <p:cNvGrpSpPr/>
            <p:nvPr/>
          </p:nvGrpSpPr>
          <p:grpSpPr>
            <a:xfrm>
              <a:off x="3505320" y="457200"/>
              <a:ext cx="2590560" cy="2209680"/>
              <a:chOff x="3505320" y="457200"/>
              <a:chExt cx="2590560" cy="2209680"/>
            </a:xfrm>
          </p:grpSpPr>
          <p:sp>
            <p:nvSpPr>
              <p:cNvPr id="253" name=""/>
              <p:cNvSpPr/>
              <p:nvPr/>
            </p:nvSpPr>
            <p:spPr>
              <a:xfrm>
                <a:off x="3505320" y="457200"/>
                <a:ext cx="2590560" cy="2209680"/>
              </a:xfrm>
              <a:prstGeom prst="ellipse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1640" y="658800"/>
                <a:ext cx="2001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 action="ppaction://hlinksldjump"/>
                  </a:rPr>
                  <a:t>Lumina lunii mângâie trandafirul din grădină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V="1">
              <a:off x="4648320" y="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23880" y="-10800"/>
            <a:ext cx="3048120" cy="4735080"/>
            <a:chOff x="1523880" y="-10800"/>
            <a:chExt cx="3048120" cy="4735080"/>
          </a:xfrm>
        </p:grpSpPr>
        <p:sp>
          <p:nvSpPr>
            <p:cNvPr id="257" name=""/>
            <p:cNvSpPr/>
            <p:nvPr/>
          </p:nvSpPr>
          <p:spPr>
            <a:xfrm flipH="1" flipV="1">
              <a:off x="2879280" y="-10800"/>
              <a:ext cx="32760" cy="216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523880" y="2225520"/>
              <a:ext cx="3048120" cy="2498760"/>
              <a:chOff x="1523880" y="2225520"/>
              <a:chExt cx="3048120" cy="2498760"/>
            </a:xfrm>
          </p:grpSpPr>
          <p:sp>
            <p:nvSpPr>
              <p:cNvPr id="259" name=""/>
              <p:cNvSpPr/>
              <p:nvPr/>
            </p:nvSpPr>
            <p:spPr>
              <a:xfrm>
                <a:off x="1523880" y="2225520"/>
                <a:ext cx="3048120" cy="2498760"/>
              </a:xfrm>
              <a:prstGeom prst="ellipse">
                <a:avLst/>
              </a:prstGeom>
              <a:solidFill>
                <a:srgbClr val="ff33cc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57400" y="2273400"/>
                <a:ext cx="213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 action="ppaction://hlinksldjump"/>
                  </a:rPr>
                  <a:t>Cartea “Amintiri din copilărie” am cumpărat-o de la librăria “Luceafărul”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6248520" y="-360"/>
            <a:ext cx="2895480" cy="3124440"/>
            <a:chOff x="6248520" y="-360"/>
            <a:chExt cx="2895480" cy="3124440"/>
          </a:xfrm>
        </p:grpSpPr>
        <p:grpSp>
          <p:nvGrpSpPr>
            <p:cNvPr id="262" name=""/>
            <p:cNvGrpSpPr/>
            <p:nvPr/>
          </p:nvGrpSpPr>
          <p:grpSpPr>
            <a:xfrm>
              <a:off x="6248520" y="609480"/>
              <a:ext cx="2895480" cy="2514600"/>
              <a:chOff x="6248520" y="609480"/>
              <a:chExt cx="2895480" cy="2514600"/>
            </a:xfrm>
          </p:grpSpPr>
          <p:sp>
            <p:nvSpPr>
              <p:cNvPr id="263" name=""/>
              <p:cNvSpPr/>
              <p:nvPr/>
            </p:nvSpPr>
            <p:spPr>
              <a:xfrm>
                <a:off x="6248520" y="609480"/>
                <a:ext cx="2895480" cy="2514600"/>
              </a:xfrm>
              <a:prstGeom prst="ellipse">
                <a:avLst/>
              </a:prstGeom>
              <a:solidFill>
                <a:srgbClr val="00808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553080" y="68580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 action="ppaction://hlinksldjump"/>
                  </a:rPr>
                  <a:t>În vacanţa      de primăvară Ana a fost la bunica în satul de sub de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7772400" y="-360"/>
              <a:ext cx="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5943600" y="-360"/>
            <a:ext cx="0" cy="2895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12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43000" y="3809880"/>
            <a:ext cx="6080040" cy="1428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32032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380880" y="1969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ăseşte prietenii lui Fifi tastând substantivele prop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133720"/>
            <a:ext cx="81532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Garamond"/>
                <a:ea typeface="Arial"/>
                <a:hlinkClick r:id="rId7" action="ppaction://hlinksldjump"/>
              </a:rPr>
              <a:t>Delfinul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Garamond"/>
                <a:ea typeface="Arial"/>
                <a:hlinkClick r:id="rId8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Fif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trăieşte in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Marea Neagr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1" action="ppaction://hlinksldjump"/>
              </a:rPr>
              <a:t>Apa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2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3" action="ppaction://hlinksldjump"/>
              </a:rPr>
              <a:t>Marii Negr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te format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ntr-un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4" action="ppaction://hlinksldjump"/>
              </a:rPr>
              <a:t>amestec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5" action="ppaction://hlinksldjump"/>
              </a:rPr>
              <a:t>ap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ulci, aduse 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6" action="ppaction://hlinksldjump"/>
              </a:rPr>
              <a:t>fluviil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7" action="ppaction://hlinksldjump"/>
              </a:rPr>
              <a:t>Dun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8" action="ppaction://hlinksldjump"/>
              </a:rPr>
              <a:t>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9" action="ppaction://hlinksldjump"/>
              </a:rPr>
              <a:t>re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0" action="ppaction://hlinksldjump"/>
              </a:rPr>
              <a:t>Nistru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1" action="ppaction://hlinksldjump"/>
              </a:rPr>
              <a:t>Nipru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2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ur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3" action="ppaction://hlinksldjump"/>
              </a:rPr>
              <a:t>r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4" action="ppaction://hlinksldjump"/>
              </a:rPr>
              <a:t>â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5" action="ppaction://hlinksldjump"/>
              </a:rPr>
              <a:t>uril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n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6" action="ppaction://hlinksldjump"/>
              </a:rPr>
              <a:t>Rom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7" action="ppaction://hlinksldjump"/>
              </a:rPr>
              <a:t>â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8" action="ppaction://hlinksldjump"/>
              </a:rPr>
              <a:t>ni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9" action="ppaction://hlinksldjump"/>
              </a:rPr>
              <a:t>ap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te venite din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0" action="ppaction://hlinksldjump"/>
              </a:rPr>
              <a:t>Marea Mediteran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1" action="ppaction://hlinksldjump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2" action="ppaction://hlinksldjump"/>
              </a:rPr>
              <a:t>Marea Neagr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3" action="ppaction://hlinksldjump"/>
              </a:rPr>
              <a:t>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4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te o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5" action="ppaction://hlinksldjump"/>
              </a:rPr>
              <a:t>mar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c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intercontinenta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într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6" action="ppaction://hlinksldjump"/>
              </a:rPr>
              <a:t>Europ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7" action="ppaction://hlinksldjump"/>
              </a:rPr>
              <a:t>Asi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P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8" action="ppaction://hlinksldjump"/>
              </a:rPr>
              <a:t>ţ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9" action="ppaction://hlinksldjump"/>
              </a:rPr>
              <a:t>rmurile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40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sc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mult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1" action="ppaction://hlinksldjump"/>
              </a:rPr>
              <a:t>porturi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2" action="ppaction://hlinksldjump"/>
              </a:rPr>
              <a:t>Constanţa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3" action="ppaction://hlinksldjump"/>
              </a:rPr>
              <a:t>Mangalia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4" action="ppaction://hlinksldjump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5" action="ppaction://hlinksldjump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6" action="ppaction://hlinksldjump"/>
              </a:rPr>
              <a:t>Varn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7" action="ppaction://hlinksldjump"/>
              </a:rPr>
              <a:t>Yalt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8" action="ppaction://hlinksldjump"/>
              </a:rPr>
              <a:t>Istambu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                               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9" action="ppaction://hlinksldjump"/>
              </a:rPr>
              <a:t>Grecii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antici au numit-o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50" action="ppaction://hlinksldjump"/>
              </a:rPr>
              <a:t>Pontus Euxinus  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51" action="ppaction://hlinksldjump"/>
              </a:rPr>
              <a:t>Marea Ospitalier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52" action="ppaction://hlinksldjump"/>
          </p:cNvPr>
          <p:cNvSpPr/>
          <p:nvPr/>
        </p:nvSpPr>
        <p:spPr>
          <a:xfrm>
            <a:off x="7543800" y="6095880"/>
            <a:ext cx="114300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3333cc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53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-776160"/>
            <a:ext cx="9144000" cy="7634160"/>
          </a:xfrm>
          <a:prstGeom prst="rect">
            <a:avLst/>
          </a:prstGeom>
          <a:solidFill>
            <a:srgbClr val="004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4" action="ppaction://hlinksldjump"/>
          </p:cNvPr>
          <p:cNvSpPr/>
          <p:nvPr/>
        </p:nvSpPr>
        <p:spPr>
          <a:xfrm>
            <a:off x="2895480" y="609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 caut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5" action="ppaction://hlinksldjump"/>
          </p:cNvPr>
          <p:cNvSpPr/>
          <p:nvPr/>
        </p:nvSpPr>
        <p:spPr>
          <a:xfrm rot="1284600">
            <a:off x="5409360" y="32767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tem pe aproa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9691400">
            <a:off x="610200" y="350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 renunţ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6" action="ppaction://hlinksldjump"/>
          </p:cNvPr>
          <p:cNvSpPr/>
          <p:nvPr/>
        </p:nvSpPr>
        <p:spPr>
          <a:xfrm>
            <a:off x="533520" y="5943600"/>
            <a:ext cx="198108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808080"/>
              </a:gs>
              <a:gs pos="100000">
                <a:srgbClr val="ffff99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8" action="ppaction://hlinksldjump"/>
          </p:cNvPr>
          <p:cNvSpPr/>
          <p:nvPr/>
        </p:nvSpPr>
        <p:spPr>
          <a:xfrm>
            <a:off x="6324480" y="5867280"/>
            <a:ext cx="2286000" cy="577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9900"/>
              </a:gs>
              <a:gs pos="100000">
                <a:srgbClr val="ffff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733920"/>
            <a:ext cx="1676520" cy="685800"/>
          </a:xfrm>
          <a:prstGeom prst="wedgeEllipseCallout">
            <a:avLst>
              <a:gd name="adj1" fmla="val -11648"/>
              <a:gd name="adj2" fmla="val 1099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2743200"/>
            <a:ext cx="2438640" cy="1523880"/>
          </a:xfrm>
          <a:prstGeom prst="wedgeEllipseCallout">
            <a:avLst>
              <a:gd name="adj1" fmla="val -29101"/>
              <a:gd name="adj2" fmla="val 315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tem aici! Bun ve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1752480"/>
            <a:ext cx="1981080" cy="533520"/>
          </a:xfrm>
          <a:prstGeom prst="wedgeEllipseCallout">
            <a:avLst>
              <a:gd name="adj1" fmla="val -7212"/>
              <a:gd name="adj2" fmla="val 4762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isteţ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6705720" y="304920"/>
            <a:ext cx="2057400" cy="577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3333cc"/>
              </a:gs>
              <a:gs pos="100000">
                <a:srgbClr val="33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0" y="0"/>
            <a:ext cx="4952880" cy="3276720"/>
          </a:xfrm>
          <a:prstGeom prst="cloudCallout">
            <a:avLst>
              <a:gd name="adj1" fmla="val -30611"/>
              <a:gd name="adj2" fmla="val 33671"/>
            </a:avLst>
          </a:prstGeom>
          <a:gradFill rotWithShape="0">
            <a:gsLst>
              <a:gs pos="0">
                <a:srgbClr val="99ccff"/>
              </a:gs>
              <a:gs pos="100000">
                <a:srgbClr val="ebf4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948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şti copil deştep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ţi o pauz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no să te joci cu m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6705720" y="2971800"/>
            <a:ext cx="1828800" cy="577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95280" y="304920"/>
            <a:ext cx="7162920" cy="1341360"/>
            <a:chOff x="1295280" y="304920"/>
            <a:chExt cx="7162920" cy="1341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295280" y="304920"/>
              <a:ext cx="68580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2286000" y="533520"/>
              <a:ext cx="6172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SUBSTANTIVUL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0" y="1523880"/>
            <a:ext cx="7696080" cy="1341720"/>
            <a:chOff x="0" y="1523880"/>
            <a:chExt cx="7696080" cy="134172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76960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47920" y="1676520"/>
              <a:ext cx="28954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5" action="ppaction://hlinksldjump"/>
                </a:rPr>
                <a:t>Ce este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219320" y="3048120"/>
            <a:ext cx="6629400" cy="1341360"/>
            <a:chOff x="1219320" y="3048120"/>
            <a:chExt cx="6629400" cy="134136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1219320" y="3048120"/>
              <a:ext cx="66294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66880" y="3200400"/>
              <a:ext cx="4267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7" action="ppaction://hlinksldjump"/>
                </a:rPr>
                <a:t>De câte feluri este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828800" y="4343400"/>
            <a:ext cx="6934320" cy="1341360"/>
            <a:chOff x="1828800" y="4343400"/>
            <a:chExt cx="6934320" cy="1341360"/>
          </a:xfrm>
        </p:grpSpPr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1828800" y="4343400"/>
              <a:ext cx="69343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07760" y="4495680"/>
              <a:ext cx="2608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9" action="ppaction://hlinksldjump"/>
                </a:rPr>
                <a:t>Numă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14600" y="5516640"/>
            <a:ext cx="6248520" cy="1341360"/>
            <a:chOff x="2514600" y="5516640"/>
            <a:chExt cx="6248520" cy="1341360"/>
          </a:xfrm>
        </p:grpSpPr>
        <p:pic>
          <p:nvPicPr>
            <p:cNvPr id="58" name="" descr=""/>
            <p:cNvPicPr/>
            <p:nvPr/>
          </p:nvPicPr>
          <p:blipFill>
            <a:blip r:embed="rId10"/>
            <a:stretch/>
          </p:blipFill>
          <p:spPr>
            <a:xfrm>
              <a:off x="2514600" y="5516640"/>
              <a:ext cx="62485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937680" y="5638680"/>
              <a:ext cx="235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11" action="ppaction://hlinksldjump"/>
                </a:rPr>
                <a:t>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2699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04920"/>
            <a:ext cx="2743200" cy="1904760"/>
          </a:xfrm>
          <a:prstGeom prst="wedgeEllipseCallout">
            <a:avLst>
              <a:gd name="adj1" fmla="val 53069"/>
              <a:gd name="adj2" fmla="val 6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609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ne facem, dragă, cu acest cop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0"/>
            <a:ext cx="2514600" cy="1600200"/>
          </a:xfrm>
          <a:prstGeom prst="wedgeEllipseCallout">
            <a:avLst>
              <a:gd name="adj1" fmla="val -59342"/>
              <a:gd name="adj2" fmla="val 9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l trimitem să rep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676520"/>
            <a:ext cx="5105520" cy="49766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304920" y="5943600"/>
            <a:ext cx="182880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6" action="ppaction://hlinksldjump"/>
          </p:cNvPr>
          <p:cNvSpPr/>
          <p:nvPr/>
        </p:nvSpPr>
        <p:spPr>
          <a:xfrm>
            <a:off x="6858000" y="6019920"/>
            <a:ext cx="2286000" cy="947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ULAR, când denumeşte un singur obi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9880" y="2057400"/>
            <a:ext cx="1295280" cy="1679040"/>
            <a:chOff x="3809880" y="2057400"/>
            <a:chExt cx="1295280" cy="1679040"/>
          </a:xfrm>
        </p:grpSpPr>
        <p:sp>
          <p:nvSpPr>
            <p:cNvPr id="301" name=""/>
            <p:cNvSpPr/>
            <p:nvPr/>
          </p:nvSpPr>
          <p:spPr>
            <a:xfrm>
              <a:off x="380988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3962160" y="2057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1219320" y="1828800"/>
            <a:ext cx="1066680" cy="1907640"/>
            <a:chOff x="1219320" y="1828800"/>
            <a:chExt cx="1066680" cy="1907640"/>
          </a:xfrm>
        </p:grpSpPr>
        <p:sp>
          <p:nvSpPr>
            <p:cNvPr id="304" name=""/>
            <p:cNvSpPr/>
            <p:nvPr/>
          </p:nvSpPr>
          <p:spPr>
            <a:xfrm>
              <a:off x="12193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1219320" y="1828800"/>
              <a:ext cx="79992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0" y="1981080"/>
            <a:ext cx="1371600" cy="1755360"/>
            <a:chOff x="0" y="1981080"/>
            <a:chExt cx="1371600" cy="175536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0" y="1981080"/>
              <a:ext cx="137160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28600" y="3276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â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438280" y="2209680"/>
            <a:ext cx="1143000" cy="1526760"/>
            <a:chOff x="2438280" y="2209680"/>
            <a:chExt cx="1143000" cy="1526760"/>
          </a:xfrm>
        </p:grpSpPr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2438280" y="2209680"/>
              <a:ext cx="114300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43828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181480" y="2057400"/>
            <a:ext cx="1417680" cy="1679040"/>
            <a:chOff x="5181480" y="2057400"/>
            <a:chExt cx="1417680" cy="1679040"/>
          </a:xfrm>
        </p:grpSpPr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5181480" y="205740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334120" y="327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b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400800" y="1600200"/>
            <a:ext cx="1393920" cy="2136240"/>
            <a:chOff x="6400800" y="1600200"/>
            <a:chExt cx="1393920" cy="2136240"/>
          </a:xfrm>
        </p:grpSpPr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6400800" y="160020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55308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829640" y="1752480"/>
            <a:ext cx="1314360" cy="1983960"/>
            <a:chOff x="7829640" y="1752480"/>
            <a:chExt cx="1314360" cy="1983960"/>
          </a:xfrm>
        </p:grpSpPr>
        <p:pic>
          <p:nvPicPr>
            <p:cNvPr id="319" name="" descr=""/>
            <p:cNvPicPr/>
            <p:nvPr/>
          </p:nvPicPr>
          <p:blipFill>
            <a:blip r:embed="rId9"/>
            <a:stretch/>
          </p:blipFill>
          <p:spPr>
            <a:xfrm>
              <a:off x="7829640" y="1752480"/>
              <a:ext cx="131436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487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şar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0" y="4419720"/>
            <a:ext cx="1657440" cy="1907280"/>
            <a:chOff x="0" y="4419720"/>
            <a:chExt cx="1657440" cy="1907280"/>
          </a:xfrm>
        </p:grpSpPr>
        <p:grpSp>
          <p:nvGrpSpPr>
            <p:cNvPr id="322" name=""/>
            <p:cNvGrpSpPr/>
            <p:nvPr/>
          </p:nvGrpSpPr>
          <p:grpSpPr>
            <a:xfrm>
              <a:off x="0" y="4419720"/>
              <a:ext cx="1657440" cy="1584360"/>
              <a:chOff x="0" y="4419720"/>
              <a:chExt cx="1657440" cy="1584360"/>
            </a:xfrm>
          </p:grpSpPr>
          <p:pic>
            <p:nvPicPr>
              <p:cNvPr id="32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5181480"/>
                <a:ext cx="1657440" cy="82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4419720"/>
                <a:ext cx="16574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30492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âi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4191120"/>
            <a:ext cx="1333800" cy="2440800"/>
            <a:chOff x="1295280" y="4191120"/>
            <a:chExt cx="1333800" cy="2440800"/>
          </a:xfrm>
        </p:grpSpPr>
        <p:pic>
          <p:nvPicPr>
            <p:cNvPr id="327" name="" descr=""/>
            <p:cNvPicPr/>
            <p:nvPr/>
          </p:nvPicPr>
          <p:blipFill>
            <a:blip r:embed="rId12"/>
            <a:stretch/>
          </p:blipFill>
          <p:spPr>
            <a:xfrm>
              <a:off x="1828800" y="4267080"/>
              <a:ext cx="8002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3"/>
            <a:stretch/>
          </p:blipFill>
          <p:spPr>
            <a:xfrm>
              <a:off x="1676520" y="4800600"/>
              <a:ext cx="7999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4"/>
            <a:stretch/>
          </p:blipFill>
          <p:spPr>
            <a:xfrm>
              <a:off x="1447920" y="4191120"/>
              <a:ext cx="7999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295280" y="61722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io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590920" y="4648320"/>
            <a:ext cx="1295280" cy="1755000"/>
            <a:chOff x="2590920" y="4648320"/>
            <a:chExt cx="1295280" cy="1755000"/>
          </a:xfrm>
        </p:grpSpPr>
        <p:pic>
          <p:nvPicPr>
            <p:cNvPr id="332" name="" descr=""/>
            <p:cNvPicPr/>
            <p:nvPr/>
          </p:nvPicPr>
          <p:blipFill>
            <a:blip r:embed="rId15"/>
            <a:stretch/>
          </p:blipFill>
          <p:spPr>
            <a:xfrm>
              <a:off x="2666880" y="5257800"/>
              <a:ext cx="68580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6"/>
            <a:stretch/>
          </p:blipFill>
          <p:spPr>
            <a:xfrm>
              <a:off x="2666880" y="4648320"/>
              <a:ext cx="76212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590920" y="5943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agu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81280" y="4800600"/>
            <a:ext cx="1143000" cy="1831320"/>
            <a:chOff x="3581280" y="4800600"/>
            <a:chExt cx="1143000" cy="1831320"/>
          </a:xfrm>
        </p:grpSpPr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3581280" y="480060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80988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2000" y="4114800"/>
            <a:ext cx="1951200" cy="2364840"/>
            <a:chOff x="4572000" y="4114800"/>
            <a:chExt cx="1951200" cy="2364840"/>
          </a:xfrm>
        </p:grpSpPr>
        <p:pic>
          <p:nvPicPr>
            <p:cNvPr id="339" name="" descr=""/>
            <p:cNvPicPr/>
            <p:nvPr/>
          </p:nvPicPr>
          <p:blipFill>
            <a:blip r:embed="rId18"/>
            <a:stretch/>
          </p:blipFill>
          <p:spPr>
            <a:xfrm>
              <a:off x="4648320" y="495288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9"/>
            <a:stretch/>
          </p:blipFill>
          <p:spPr>
            <a:xfrm>
              <a:off x="5105520" y="4419720"/>
              <a:ext cx="14176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0"/>
            <a:stretch/>
          </p:blipFill>
          <p:spPr>
            <a:xfrm>
              <a:off x="4572000" y="411480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800600" y="6019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bo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72200" y="4038480"/>
            <a:ext cx="1774800" cy="2593440"/>
            <a:chOff x="6172200" y="4038480"/>
            <a:chExt cx="1774800" cy="2593440"/>
          </a:xfrm>
        </p:grpSpPr>
        <p:pic>
          <p:nvPicPr>
            <p:cNvPr id="344" name="" descr=""/>
            <p:cNvPicPr/>
            <p:nvPr/>
          </p:nvPicPr>
          <p:blipFill>
            <a:blip r:embed="rId21"/>
            <a:stretch/>
          </p:blipFill>
          <p:spPr>
            <a:xfrm>
              <a:off x="6553080" y="403848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2"/>
            <a:stretch/>
          </p:blipFill>
          <p:spPr>
            <a:xfrm>
              <a:off x="6172200" y="441972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172200" y="6172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a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829640" y="3733920"/>
            <a:ext cx="1314360" cy="2440800"/>
            <a:chOff x="7829640" y="3733920"/>
            <a:chExt cx="1314360" cy="2440800"/>
          </a:xfrm>
        </p:grpSpPr>
        <p:pic>
          <p:nvPicPr>
            <p:cNvPr id="348" name="" descr=""/>
            <p:cNvPicPr/>
            <p:nvPr/>
          </p:nvPicPr>
          <p:blipFill>
            <a:blip r:embed="rId23"/>
            <a:stretch/>
          </p:blipFill>
          <p:spPr>
            <a:xfrm>
              <a:off x="7829640" y="3733920"/>
              <a:ext cx="13143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4"/>
            <a:stretch/>
          </p:blipFill>
          <p:spPr>
            <a:xfrm>
              <a:off x="7829640" y="4572000"/>
              <a:ext cx="1314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48720" y="5715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şer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04920" y="3809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LURAL, când denumeşte mai multe obiect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25" action="ppaction://hlinksldjump"/>
          </p:cNvPr>
          <p:cNvSpPr/>
          <p:nvPr/>
        </p:nvSpPr>
        <p:spPr>
          <a:xfrm rot="72000">
            <a:off x="6629400" y="228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Să exersă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04920"/>
            <a:ext cx="55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ubstantivul are două nu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0" y="0"/>
            <a:ext cx="6858000" cy="134136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rId29" action="ppaction://hlinksldjump"/>
          </p:cNvPr>
          <p:cNvSpPr/>
          <p:nvPr/>
        </p:nvSpPr>
        <p:spPr>
          <a:xfrm>
            <a:off x="228600" y="63244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400"/>
                            </p:stCondLst>
                            <p:childTnLst>
                              <p:par>
                                <p:cTn id="56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98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3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28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43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8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73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8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3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18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3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48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63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78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93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8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 rot="554400">
            <a:off x="914040" y="4114440"/>
            <a:ext cx="6781680" cy="57780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 rot="1147800">
            <a:off x="1370880" y="396252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iera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 rot="1147800">
            <a:off x="2831400" y="403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â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 rot="1147800">
            <a:off x="4874400" y="4268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 rot="1147800">
            <a:off x="5992200" y="451656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 rot="532200">
            <a:off x="380880" y="4723920"/>
            <a:ext cx="7239240" cy="573120"/>
          </a:xfrm>
          <a:prstGeom prst="flowChartPunchedTap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rId10" action="ppaction://hlinksldjump"/>
          </p:cNvPr>
          <p:cNvSpPr/>
          <p:nvPr/>
        </p:nvSpPr>
        <p:spPr>
          <a:xfrm rot="802800">
            <a:off x="761760" y="449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e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11" action="ppaction://hlinksldjump"/>
          </p:cNvPr>
          <p:cNvSpPr/>
          <p:nvPr/>
        </p:nvSpPr>
        <p:spPr>
          <a:xfrm rot="1143600">
            <a:off x="2196720" y="46447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12" action="ppaction://hlinksldjump"/>
          </p:cNvPr>
          <p:cNvSpPr/>
          <p:nvPr/>
        </p:nvSpPr>
        <p:spPr>
          <a:xfrm rot="802800">
            <a:off x="3504960" y="48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Ge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3" action="ppaction://hlinksldjump"/>
          </p:cNvPr>
          <p:cNvSpPr/>
          <p:nvPr/>
        </p:nvSpPr>
        <p:spPr>
          <a:xfrm rot="802800">
            <a:off x="533376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52578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Ajută-l pe Pinocchio să ajungă la tatăl său selectând cărarea pe care sunt scrise numai substantive la numărul si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4" action="ppaction://hlinksldjump"/>
          </p:cNvPr>
          <p:cNvSpPr/>
          <p:nvPr/>
        </p:nvSpPr>
        <p:spPr>
          <a:xfrm rot="292800">
            <a:off x="914400" y="3276720"/>
            <a:ext cx="6559560" cy="598320"/>
          </a:xfrm>
          <a:prstGeom prst="flowChartPunchedTap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6" action="ppaction://hlinksldjump"/>
          </p:cNvPr>
          <p:cNvSpPr/>
          <p:nvPr/>
        </p:nvSpPr>
        <p:spPr>
          <a:xfrm rot="433800">
            <a:off x="1447560" y="3123720"/>
            <a:ext cx="11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7" action="ppaction://hlinksldjump"/>
          </p:cNvPr>
          <p:cNvSpPr/>
          <p:nvPr/>
        </p:nvSpPr>
        <p:spPr>
          <a:xfrm rot="126000">
            <a:off x="2817360" y="3298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8" action="ppaction://hlinksldjump"/>
          </p:cNvPr>
          <p:cNvSpPr/>
          <p:nvPr/>
        </p:nvSpPr>
        <p:spPr>
          <a:xfrm rot="477600">
            <a:off x="3962160" y="342864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gare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9" action="ppaction://hlinksldjump"/>
          </p:cNvPr>
          <p:cNvSpPr/>
          <p:nvPr/>
        </p:nvSpPr>
        <p:spPr>
          <a:xfrm rot="277200">
            <a:off x="6171840" y="3611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734160" y="4038480"/>
            <a:ext cx="2409840" cy="2819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200400" y="0"/>
            <a:ext cx="2971800" cy="284472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Vei descoperi comoara ascunsă   de Pinocchio alegând pomul care conţine numai substantive la numărul pl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0" y="0"/>
            <a:ext cx="3203640" cy="3071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 rot="19383600">
            <a:off x="533880" y="30456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cop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9367400">
            <a:off x="1981800" y="1370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98600" y="2286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poveş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722600">
            <a:off x="380160" y="10666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n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095880" y="0"/>
            <a:ext cx="3048120" cy="30718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rot="19810200">
            <a:off x="8145720" y="1693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l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6080" y="30492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92720" y="160020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cod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483200">
            <a:off x="6096600" y="45648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0" y="2286000"/>
            <a:ext cx="1317600" cy="213372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rId28" action="ppaction://hlinksldjump"/>
          </p:cNvPr>
          <p:cNvSpPr/>
          <p:nvPr/>
        </p:nvSpPr>
        <p:spPr>
          <a:xfrm>
            <a:off x="5410080" y="6095880"/>
            <a:ext cx="1143000" cy="57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9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90920" y="0"/>
            <a:ext cx="4753080" cy="5943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914400" y="838080"/>
            <a:ext cx="3657600" cy="1371600"/>
          </a:xfrm>
          <a:prstGeom prst="wedgeRoundRectCallout">
            <a:avLst>
              <a:gd name="adj1" fmla="val 107509"/>
              <a:gd name="adj2" fmla="val 56712"/>
              <a:gd name="adj3" fmla="val 16667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lu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-ai nimerit!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5" action="ppaction://hlinksldjump"/>
          </p:cNvPr>
          <p:cNvSpPr/>
          <p:nvPr/>
        </p:nvSpPr>
        <p:spPr>
          <a:xfrm>
            <a:off x="304920" y="609588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7" action="ppaction://hlinksldjump"/>
          </p:cNvPr>
          <p:cNvSpPr/>
          <p:nvPr/>
        </p:nvSpPr>
        <p:spPr>
          <a:xfrm>
            <a:off x="6781680" y="6019920"/>
            <a:ext cx="198144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Mai caut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2514600"/>
            <a:ext cx="426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Eş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cel mai bogat 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din lu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380880" y="5943600"/>
            <a:ext cx="190512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33720" y="2133720"/>
            <a:ext cx="4236840" cy="4724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rId5" action="ppaction://hlinksldjump"/>
          </p:cNvPr>
          <p:cNvSpPr/>
          <p:nvPr/>
        </p:nvSpPr>
        <p:spPr>
          <a:xfrm>
            <a:off x="457200" y="30492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Mulţumim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Eşti copil deştep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u ne-ai ajutat să fim iar împreună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6" action="ppaction://hlinksldjump"/>
          </p:cNvPr>
          <p:cNvSpPr/>
          <p:nvPr/>
        </p:nvSpPr>
        <p:spPr>
          <a:xfrm>
            <a:off x="6934320" y="5943600"/>
            <a:ext cx="190476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7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914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bstantivele care se numără precum fetele (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o, două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) sunt de </a:t>
            </a:r>
            <a:r>
              <a:rPr b="1" lang="ro-RO" sz="2400" spc="-1" strike="noStrike">
                <a:solidFill>
                  <a:srgbClr val="ff5050"/>
                </a:solidFill>
                <a:latin typeface="Times New Roman"/>
              </a:rPr>
              <a:t>genul femin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2895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bstantivele care se numără precum băieţii (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un, do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) sunt de 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genul mascul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48006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care se numără cu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 două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nt d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enul neu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 rot="43200">
            <a:off x="7541640" y="2285640"/>
            <a:ext cx="12967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5" action="ppaction://hlinksldjump"/>
          </p:cNvPr>
          <p:cNvSpPr/>
          <p:nvPr/>
        </p:nvSpPr>
        <p:spPr>
          <a:xfrm rot="43200">
            <a:off x="5714280" y="6248160"/>
            <a:ext cx="129708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7" action="ppaction://hlinksldjump"/>
          </p:cNvPr>
          <p:cNvSpPr/>
          <p:nvPr/>
        </p:nvSpPr>
        <p:spPr>
          <a:xfrm rot="43200">
            <a:off x="6780960" y="4343040"/>
            <a:ext cx="129708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28600" y="914400"/>
            <a:ext cx="990720" cy="2059920"/>
            <a:chOff x="228600" y="914400"/>
            <a:chExt cx="990720" cy="2059920"/>
          </a:xfrm>
        </p:grpSpPr>
        <p:grpSp>
          <p:nvGrpSpPr>
            <p:cNvPr id="409" name=""/>
            <p:cNvGrpSpPr/>
            <p:nvPr/>
          </p:nvGrpSpPr>
          <p:grpSpPr>
            <a:xfrm>
              <a:off x="228600" y="914400"/>
              <a:ext cx="990720" cy="1600200"/>
              <a:chOff x="228600" y="914400"/>
              <a:chExt cx="990720" cy="1600200"/>
            </a:xfrm>
          </p:grpSpPr>
          <p:pic>
            <p:nvPicPr>
              <p:cNvPr id="4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0880" y="990360"/>
                <a:ext cx="685800" cy="13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228600" y="914400"/>
                <a:ext cx="990720" cy="1600200"/>
              </a:xfrm>
              <a:prstGeom prst="rect">
                <a:avLst/>
              </a:prstGeom>
              <a:noFill/>
              <a:ln w="7632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304920" y="2514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fat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523880" y="914400"/>
            <a:ext cx="1828800" cy="2059920"/>
            <a:chOff x="1523880" y="914400"/>
            <a:chExt cx="1828800" cy="2059920"/>
          </a:xfrm>
        </p:grpSpPr>
        <p:grpSp>
          <p:nvGrpSpPr>
            <p:cNvPr id="414" name=""/>
            <p:cNvGrpSpPr/>
            <p:nvPr/>
          </p:nvGrpSpPr>
          <p:grpSpPr>
            <a:xfrm>
              <a:off x="1523880" y="914400"/>
              <a:ext cx="1828800" cy="1676520"/>
              <a:chOff x="1523880" y="914400"/>
              <a:chExt cx="1828800" cy="16765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76520" y="990720"/>
                <a:ext cx="7617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38280" y="990720"/>
                <a:ext cx="762120" cy="13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523880" y="914400"/>
                <a:ext cx="1828800" cy="1676520"/>
              </a:xfrm>
              <a:prstGeom prst="rect">
                <a:avLst/>
              </a:prstGeom>
              <a:noFill/>
              <a:ln w="7632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167652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uă f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28600" y="3124080"/>
            <a:ext cx="1295280" cy="2059920"/>
            <a:chOff x="228600" y="3124080"/>
            <a:chExt cx="1295280" cy="2059920"/>
          </a:xfrm>
        </p:grpSpPr>
        <p:grpSp>
          <p:nvGrpSpPr>
            <p:cNvPr id="420" name=""/>
            <p:cNvGrpSpPr/>
            <p:nvPr/>
          </p:nvGrpSpPr>
          <p:grpSpPr>
            <a:xfrm>
              <a:off x="228600" y="3124080"/>
              <a:ext cx="1295280" cy="1600200"/>
              <a:chOff x="228600" y="3124080"/>
              <a:chExt cx="1295280" cy="1600200"/>
            </a:xfrm>
          </p:grpSpPr>
          <p:pic>
            <p:nvPicPr>
              <p:cNvPr id="4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4920" y="3200400"/>
                <a:ext cx="9270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228600" y="3124080"/>
                <a:ext cx="1295280" cy="16002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28600" y="4724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 băi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752480" y="3124080"/>
            <a:ext cx="1905120" cy="2059920"/>
            <a:chOff x="1752480" y="3124080"/>
            <a:chExt cx="1905120" cy="2059920"/>
          </a:xfrm>
        </p:grpSpPr>
        <p:grpSp>
          <p:nvGrpSpPr>
            <p:cNvPr id="425" name=""/>
            <p:cNvGrpSpPr/>
            <p:nvPr/>
          </p:nvGrpSpPr>
          <p:grpSpPr>
            <a:xfrm>
              <a:off x="1752480" y="3124080"/>
              <a:ext cx="1905120" cy="1600200"/>
              <a:chOff x="1752480" y="3124080"/>
              <a:chExt cx="1905120" cy="1600200"/>
            </a:xfrm>
          </p:grpSpPr>
          <p:pic>
            <p:nvPicPr>
              <p:cNvPr id="4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28800" y="3276360"/>
                <a:ext cx="7747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66880" y="3200400"/>
                <a:ext cx="88128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1752480" y="3124080"/>
                <a:ext cx="1905120" cy="16002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90512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i băieţ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6320" y="5257800"/>
            <a:ext cx="1523880" cy="1450440"/>
            <a:chOff x="76320" y="5257800"/>
            <a:chExt cx="1523880" cy="1450440"/>
          </a:xfrm>
        </p:grpSpPr>
        <p:grpSp>
          <p:nvGrpSpPr>
            <p:cNvPr id="431" name=""/>
            <p:cNvGrpSpPr/>
            <p:nvPr/>
          </p:nvGrpSpPr>
          <p:grpSpPr>
            <a:xfrm>
              <a:off x="380880" y="5257800"/>
              <a:ext cx="685800" cy="1066320"/>
              <a:chOff x="380880" y="5257800"/>
              <a:chExt cx="685800" cy="1066320"/>
            </a:xfrm>
          </p:grpSpPr>
          <p:pic>
            <p:nvPicPr>
              <p:cNvPr id="43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0880" y="5386680"/>
                <a:ext cx="498600" cy="9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380880" y="5257800"/>
                <a:ext cx="685800" cy="999720"/>
              </a:xfrm>
              <a:prstGeom prst="rect">
                <a:avLst/>
              </a:prstGeom>
              <a:noFill/>
              <a:ln w="7632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00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320" y="6248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 cre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905120" y="5372280"/>
            <a:ext cx="2133360" cy="1411920"/>
            <a:chOff x="1905120" y="5372280"/>
            <a:chExt cx="2133360" cy="1411920"/>
          </a:xfrm>
        </p:grpSpPr>
        <p:grpSp>
          <p:nvGrpSpPr>
            <p:cNvPr id="436" name=""/>
            <p:cNvGrpSpPr/>
            <p:nvPr/>
          </p:nvGrpSpPr>
          <p:grpSpPr>
            <a:xfrm>
              <a:off x="1905120" y="5372280"/>
              <a:ext cx="1828800" cy="1104480"/>
              <a:chOff x="1905120" y="5372280"/>
              <a:chExt cx="1828800" cy="11044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57760" y="5448240"/>
                <a:ext cx="91440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19520" y="5372280"/>
                <a:ext cx="914400" cy="102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1905120" y="5372280"/>
                <a:ext cx="1752840" cy="990360"/>
              </a:xfrm>
              <a:prstGeom prst="rect">
                <a:avLst/>
              </a:prstGeom>
              <a:noFill/>
              <a:ln w="7632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00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905120" y="63244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uă creio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447920" y="0"/>
            <a:ext cx="7696080" cy="1297440"/>
            <a:chOff x="1447920" y="0"/>
            <a:chExt cx="7696080" cy="1297440"/>
          </a:xfrm>
        </p:grpSpPr>
        <p:sp>
          <p:nvSpPr>
            <p:cNvPr id="442" name=""/>
            <p:cNvSpPr/>
            <p:nvPr/>
          </p:nvSpPr>
          <p:spPr>
            <a:xfrm>
              <a:off x="3124080" y="228600"/>
              <a:ext cx="6019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Monotype Corsiva"/>
                </a:rPr>
                <a:t>Substantivele se deosebesc prin </a:t>
              </a:r>
              <a:r>
                <a:rPr b="1" lang="en-US" sz="3200" spc="-1" strike="noStrike">
                  <a:solidFill>
                    <a:srgbClr val="009999"/>
                  </a:solidFill>
                  <a:latin typeface="Monotype Corsiva"/>
                </a:rPr>
                <a:t>genur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18"/>
            <a:stretch/>
          </p:blipFill>
          <p:spPr>
            <a:xfrm>
              <a:off x="1447920" y="0"/>
              <a:ext cx="71625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35812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fetiţă, mamă, elevă, carte, cre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886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băiat, copil, elev, iepuraş, c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creion, televizor, stilou, penar o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9" action="ppaction://hlinksldjump"/>
          </p:cNvPr>
          <p:cNvSpPr/>
          <p:nvPr/>
        </p:nvSpPr>
        <p:spPr>
          <a:xfrm>
            <a:off x="3962520" y="63244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0"/>
            <a:ext cx="2209680" cy="20494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74320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3124080"/>
            <a:ext cx="1336680" cy="25941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86200" y="3352680"/>
            <a:ext cx="1292400" cy="1863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62320" y="39625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2209680" cy="1860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0" y="4114800"/>
            <a:ext cx="1995480" cy="20383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562720" y="1295280"/>
            <a:ext cx="1942920" cy="1692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343400" y="0"/>
            <a:ext cx="1917720" cy="18194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21" action="ppaction://hlinksldjump"/>
          </p:cNvPr>
          <p:cNvSpPr/>
          <p:nvPr/>
        </p:nvSpPr>
        <p:spPr>
          <a:xfrm>
            <a:off x="533520" y="4648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3310800">
            <a:off x="2278440" y="488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fi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23" action="ppaction://hlinksldjump"/>
          </p:cNvPr>
          <p:cNvSpPr/>
          <p:nvPr/>
        </p:nvSpPr>
        <p:spPr>
          <a:xfrm>
            <a:off x="3962520" y="3809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ştiin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24" action="ppaction://hlinksldjump"/>
          </p:cNvPr>
          <p:cNvSpPr/>
          <p:nvPr/>
        </p:nvSpPr>
        <p:spPr>
          <a:xfrm>
            <a:off x="7772400" y="533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rId25" action="ppaction://hlinksldjump"/>
          </p:cNvPr>
          <p:cNvSpPr/>
          <p:nvPr/>
        </p:nvSpPr>
        <p:spPr>
          <a:xfrm rot="19300200">
            <a:off x="4572360" y="456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a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156400">
            <a:off x="5821200" y="39308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avio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rId27" action="ppaction://hlinksldjump"/>
          </p:cNvPr>
          <p:cNvSpPr/>
          <p:nvPr/>
        </p:nvSpPr>
        <p:spPr>
          <a:xfrm>
            <a:off x="533520" y="533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z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ieş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911920"/>
            <a:ext cx="7848720" cy="947160"/>
          </a:xfrm>
          <a:prstGeom prst="rect">
            <a:avLst/>
          </a:prstGeom>
          <a:solidFill>
            <a:srgbClr val="1b7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tează frunzele cu substantive la genul feminin şi vei afla mâncarea preferată a lui Codi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29" action="ppaction://hlinksldjump"/>
          </p:cNvPr>
          <p:cNvSpPr/>
          <p:nvPr/>
        </p:nvSpPr>
        <p:spPr>
          <a:xfrm>
            <a:off x="7238880" y="5105520"/>
            <a:ext cx="190512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30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" y="5973840"/>
              <a:ext cx="8915400" cy="581400"/>
            </a:xfrm>
            <a:prstGeom prst="rect">
              <a:avLst/>
            </a:prstGeom>
            <a:solidFill>
              <a:srgbClr val="1b7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ste delicios!  Conţine vitamina A! Vrei şi tu unu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>
            <a:hlinkClick r:id="rId2" action="ppaction://hlinksldjump"/>
          </p:cNvPr>
          <p:cNvSpPr/>
          <p:nvPr/>
        </p:nvSpPr>
        <p:spPr>
          <a:xfrm>
            <a:off x="5715000" y="1371600"/>
            <a:ext cx="1828800" cy="6472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3" action="ppaction://hlinksldjump"/>
              </a:rPr>
              <a:t>Mai ale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1752480" y="533520"/>
            <a:ext cx="4184640" cy="39621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0" y="3944880"/>
            <a:ext cx="3809880" cy="29131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952880" y="0"/>
            <a:ext cx="4191120" cy="3048120"/>
          </a:xfrm>
          <a:prstGeom prst="wedgeEllipseCallout">
            <a:avLst>
              <a:gd name="adj1" fmla="val -54282"/>
              <a:gd name="adj2" fmla="val 23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e este mâncarea ta preferat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eau să-mi ajut copil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4267080"/>
            <a:ext cx="4190760" cy="1219320"/>
          </a:xfrm>
          <a:prstGeom prst="wedgeEllipseCallout">
            <a:avLst>
              <a:gd name="adj1" fmla="val -44546"/>
              <a:gd name="adj2" fmla="val 61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ă fie mai a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o după mi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2971800" y="6019920"/>
            <a:ext cx="1828800" cy="45972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7" action="ppaction://hlinksldjump"/>
          </p:cNvPr>
          <p:cNvSpPr/>
          <p:nvPr/>
        </p:nvSpPr>
        <p:spPr>
          <a:xfrm>
            <a:off x="6324480" y="6019920"/>
            <a:ext cx="1828800" cy="45972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Mai ale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0" y="-533520"/>
            <a:ext cx="9144000" cy="6782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-380880"/>
            <a:ext cx="6858000" cy="134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90920" y="-76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e este substantivul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 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denu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m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4191120" y="3048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4038480" y="4952880"/>
            <a:ext cx="925560" cy="61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038480" y="4038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2819520" y="3048120"/>
            <a:ext cx="1063440" cy="105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812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Să denum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Să denum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2971800"/>
            <a:ext cx="2361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971800"/>
            <a:ext cx="2514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228600" y="4343400"/>
            <a:ext cx="7603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990720" y="5334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1380960" y="3048120"/>
            <a:ext cx="8668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228600" y="304812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219320" y="4419720"/>
            <a:ext cx="1066680" cy="103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0" y="5334120"/>
            <a:ext cx="1219320" cy="9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>
            <a:off x="1143000" y="3657600"/>
            <a:ext cx="928800" cy="99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219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Substantivul este partea de vorbire care denumeşte obiec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4"/>
          <a:stretch/>
        </p:blipFill>
        <p:spPr>
          <a:xfrm>
            <a:off x="2971800" y="5029200"/>
            <a:ext cx="822240" cy="116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5"/>
          <a:stretch/>
        </p:blipFill>
        <p:spPr>
          <a:xfrm>
            <a:off x="3886200" y="5334120"/>
            <a:ext cx="1295280" cy="100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6"/>
          <a:stretch/>
        </p:blipFill>
        <p:spPr>
          <a:xfrm>
            <a:off x="5867280" y="495288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7"/>
          <a:stretch/>
        </p:blipFill>
        <p:spPr>
          <a:xfrm>
            <a:off x="5486400" y="2971800"/>
            <a:ext cx="3378240" cy="203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8"/>
          <a:stretch/>
        </p:blipFill>
        <p:spPr>
          <a:xfrm>
            <a:off x="5410080" y="3657600"/>
            <a:ext cx="1782720" cy="126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9"/>
          <a:stretch/>
        </p:blipFill>
        <p:spPr>
          <a:xfrm>
            <a:off x="7620120" y="4343400"/>
            <a:ext cx="1257120" cy="105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362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fiinţ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lucru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fenomene ale natur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2895480" y="4114800"/>
            <a:ext cx="1067040" cy="80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2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7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2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7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2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7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2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7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2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7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2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7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2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7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2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7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42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7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2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87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2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21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28800" cy="24004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28600" y="5410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onald,  Mickey şi Chiţ trebuie să enumere substantive la genul masculin.Tastează pe cel care a răspuns co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48280" y="152280"/>
            <a:ext cx="1428840" cy="2332080"/>
          </a:xfrm>
          <a:prstGeom prst="rect">
            <a:avLst/>
          </a:prstGeom>
          <a:ln w="0">
            <a:noFill/>
          </a:ln>
        </p:spPr>
      </p:pic>
      <p:sp>
        <p:nvSpPr>
          <p:cNvPr id="485" name="">
            <a:hlinkClick r:id="rId6" action="ppaction://hlinksldjump"/>
          </p:cNvPr>
          <p:cNvSpPr/>
          <p:nvPr/>
        </p:nvSpPr>
        <p:spPr>
          <a:xfrm flipH="1" rot="10786800">
            <a:off x="3580920" y="1066680"/>
            <a:ext cx="1828800" cy="38098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7" action="ppaction://hlinksldjump"/>
          </p:cNvPr>
          <p:cNvSpPr/>
          <p:nvPr/>
        </p:nvSpPr>
        <p:spPr>
          <a:xfrm>
            <a:off x="3657600" y="1066680"/>
            <a:ext cx="1600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ori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ş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9" action="ppaction://hlinksldjump"/>
          </p:cNvPr>
          <p:cNvSpPr/>
          <p:nvPr/>
        </p:nvSpPr>
        <p:spPr>
          <a:xfrm rot="10807200">
            <a:off x="1294920" y="990000"/>
            <a:ext cx="1890720" cy="4343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0" action="ppaction://hlinksldjump"/>
          </p:cNvPr>
          <p:cNvSpPr/>
          <p:nvPr/>
        </p:nvSpPr>
        <p:spPr>
          <a:xfrm>
            <a:off x="1523880" y="137160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tu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hioz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coal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12200" y="152280"/>
            <a:ext cx="1531800" cy="236232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rId13" action="ppaction://hlinksldjump"/>
          </p:cNvPr>
          <p:cNvSpPr/>
          <p:nvPr/>
        </p:nvSpPr>
        <p:spPr>
          <a:xfrm flipH="1" rot="10839000">
            <a:off x="6628320" y="1600200"/>
            <a:ext cx="1976400" cy="3581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4" action="ppaction://hlinksldjump"/>
          </p:cNvPr>
          <p:cNvSpPr/>
          <p:nvPr/>
        </p:nvSpPr>
        <p:spPr>
          <a:xfrm>
            <a:off x="6858000" y="1676520"/>
            <a:ext cx="1523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e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5" action="ppaction://hlinksldjump"/>
          </p:cNvPr>
          <p:cNvSpPr/>
          <p:nvPr/>
        </p:nvSpPr>
        <p:spPr>
          <a:xfrm>
            <a:off x="6934320" y="5943600"/>
            <a:ext cx="190476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17" action="ppaction://hlinksldjump"/>
          </p:cNvPr>
          <p:cNvSpPr/>
          <p:nvPr/>
        </p:nvSpPr>
        <p:spPr>
          <a:xfrm>
            <a:off x="380880" y="6172200"/>
            <a:ext cx="10670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9500"/>
                            </p:stCondLst>
                            <p:childTnLst>
                              <p:par>
                                <p:cTn id="72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80880"/>
            <a:ext cx="3429000" cy="2819520"/>
          </a:xfrm>
          <a:prstGeom prst="wedgeEllipseCallout">
            <a:avLst>
              <a:gd name="adj1" fmla="val -37361"/>
              <a:gd name="adj2" fmla="val 69990"/>
            </a:avLst>
          </a:prstGeom>
          <a:gradFill rotWithShape="0">
            <a:gsLst>
              <a:gs pos="0">
                <a:srgbClr val="ffffff"/>
              </a:gs>
              <a:gs pos="50000">
                <a:srgbClr val="00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ravoo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eriţi un mă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Vrei unul verde sau unul roş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6781680" y="4114800"/>
            <a:ext cx="1828800" cy="5770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Mai a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ccccff"/>
              </a:gs>
              <a:gs pos="100000">
                <a:srgbClr val="00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19720" y="1143000"/>
            <a:ext cx="3879720" cy="533412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rId4" action="ppaction://hlinksldjump"/>
          </p:cNvPr>
          <p:cNvSpPr/>
          <p:nvPr/>
        </p:nvSpPr>
        <p:spPr>
          <a:xfrm>
            <a:off x="304920" y="990720"/>
            <a:ext cx="4267080" cy="1447560"/>
          </a:xfrm>
          <a:prstGeom prst="wedgeRoundRectCallout">
            <a:avLst>
              <a:gd name="adj1" fmla="val 62870"/>
              <a:gd name="adj2" fmla="val 81138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ează-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 rog să fii mai a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5" action="ppaction://hlinksldjump"/>
          </p:cNvPr>
          <p:cNvSpPr/>
          <p:nvPr/>
        </p:nvSpPr>
        <p:spPr>
          <a:xfrm>
            <a:off x="685800" y="4267080"/>
            <a:ext cx="1828800" cy="64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Să reluă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7" action="ppaction://hlinksldjump"/>
          </p:cNvPr>
          <p:cNvSpPr/>
          <p:nvPr/>
        </p:nvSpPr>
        <p:spPr>
          <a:xfrm>
            <a:off x="6400800" y="5638680"/>
            <a:ext cx="1828800" cy="6472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Mai ale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556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tează substantivele la genul neutru si vei afla câţi puişori are pasărea din pomul din faţa casei m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9509000">
            <a:off x="229320" y="304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p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6" action="ppaction://hlinksldjump"/>
          </p:cNvPr>
          <p:cNvSpPr/>
          <p:nvPr/>
        </p:nvSpPr>
        <p:spPr>
          <a:xfrm>
            <a:off x="67816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d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vra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724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ci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maşi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12" action="ppaction://hlinksldjump"/>
          </p:cNvPr>
          <p:cNvSpPr/>
          <p:nvPr/>
        </p:nvSpPr>
        <p:spPr>
          <a:xfrm>
            <a:off x="72388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ţar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304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barz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15" action="ppaction://hlinksldjump"/>
          </p:cNvPr>
          <p:cNvSpPr/>
          <p:nvPr/>
        </p:nvSpPr>
        <p:spPr>
          <a:xfrm>
            <a:off x="6858000" y="6095880"/>
            <a:ext cx="1066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17" action="ppaction://hlinksldjump"/>
          </p:cNvPr>
          <p:cNvSpPr/>
          <p:nvPr/>
        </p:nvSpPr>
        <p:spPr>
          <a:xfrm>
            <a:off x="304920" y="6338880"/>
            <a:ext cx="1218960" cy="57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8" action="ppaction://hlinksldjump"/>
              </a:rPr>
              <a:t>Înap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1235160" cy="297180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rId2" action="ppaction://hlinksldjump"/>
          </p:cNvPr>
          <p:cNvSpPr/>
          <p:nvPr/>
        </p:nvSpPr>
        <p:spPr>
          <a:xfrm>
            <a:off x="4724280" y="2971800"/>
            <a:ext cx="4419720" cy="3886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7772400" y="5562720"/>
            <a:ext cx="1096920" cy="946080"/>
          </a:xfrm>
          <a:prstGeom prst="rect">
            <a:avLst/>
          </a:prstGeom>
          <a:ln w="0">
            <a:noFill/>
          </a:ln>
        </p:spPr>
      </p:pic>
      <p:sp>
        <p:nvSpPr>
          <p:cNvPr id="520" name="">
            <a:hlinkClick r:id="rId5" action="ppaction://hlinksldjump"/>
          </p:cNvPr>
          <p:cNvSpPr/>
          <p:nvPr/>
        </p:nvSpPr>
        <p:spPr>
          <a:xfrm>
            <a:off x="0" y="0"/>
            <a:ext cx="4724280" cy="2971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7" action="ppaction://hlinksldjump"/>
          </p:cNvPr>
          <p:cNvSpPr/>
          <p:nvPr/>
        </p:nvSpPr>
        <p:spPr>
          <a:xfrm>
            <a:off x="4724280" y="0"/>
            <a:ext cx="4419720" cy="29718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9" action="ppaction://hlinksldjump"/>
          </p:cNvPr>
          <p:cNvSpPr/>
          <p:nvPr/>
        </p:nvSpPr>
        <p:spPr>
          <a:xfrm>
            <a:off x="0" y="2971800"/>
            <a:ext cx="4648320" cy="3886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1"/>
          <a:stretch/>
        </p:blipFill>
        <p:spPr>
          <a:xfrm>
            <a:off x="7315200" y="373392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2"/>
          <a:stretch/>
        </p:blipFill>
        <p:spPr>
          <a:xfrm>
            <a:off x="5334120" y="2895480"/>
            <a:ext cx="1096920" cy="9464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3"/>
          <a:stretch/>
        </p:blipFill>
        <p:spPr>
          <a:xfrm>
            <a:off x="2057400" y="592308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4"/>
          <a:stretch/>
        </p:blipFill>
        <p:spPr>
          <a:xfrm>
            <a:off x="7315200" y="1274760"/>
            <a:ext cx="944640" cy="814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15"/>
          <a:stretch/>
        </p:blipFill>
        <p:spPr>
          <a:xfrm>
            <a:off x="609480" y="3402000"/>
            <a:ext cx="990720" cy="80964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rId16" action="ppaction://hlinksldjump"/>
          </p:cNvPr>
          <p:cNvSpPr/>
          <p:nvPr/>
        </p:nvSpPr>
        <p:spPr>
          <a:xfrm>
            <a:off x="1981080" y="2971800"/>
            <a:ext cx="4572000" cy="3886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1981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rId18" action="ppaction://hlinksldjump"/>
          </p:cNvPr>
          <p:cNvSpPr/>
          <p:nvPr/>
        </p:nvSpPr>
        <p:spPr>
          <a:xfrm>
            <a:off x="685800" y="685800"/>
            <a:ext cx="1752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9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467840" cy="5103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80880" y="5638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ţţţţţţţţţ!                Trebuie să lucrezi supliment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rId3" action="ppaction://hlinksldjump"/>
          </p:cNvPr>
          <p:cNvSpPr/>
          <p:nvPr/>
        </p:nvSpPr>
        <p:spPr>
          <a:xfrm>
            <a:off x="304920" y="617220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6095880"/>
            <a:ext cx="2133720" cy="947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6600"/>
              </a:gs>
              <a:gs pos="100000">
                <a:srgbClr val="00cc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3400200" cy="5265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334120" y="0"/>
            <a:ext cx="3809880" cy="1295280"/>
          </a:xfrm>
          <a:prstGeom prst="wedgeRoundRectCallout">
            <a:avLst>
              <a:gd name="adj1" fmla="val -72541"/>
              <a:gd name="adj2" fmla="val 142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ata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ai la joacă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3920"/>
            <a:ext cx="8686800" cy="2466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enumim fiinţ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13328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1889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lut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889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lo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905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ăd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65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1320" y="533520"/>
            <a:ext cx="1523880" cy="126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15000" y="19652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um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68732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96080" y="19652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676520" y="38088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272880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erciţ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Tasteaz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bstantivele care denumesc fiinţ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718080"/>
            <a:ext cx="198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ghio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oco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And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ş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şori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2743200" y="46044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3718080"/>
            <a:ext cx="198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mama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Florin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fotbalist 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 pui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stadion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 lalea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ied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6400800"/>
            <a:ext cx="1828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Mai de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457200"/>
            <a:ext cx="4114800" cy="2590920"/>
          </a:xfrm>
          <a:prstGeom prst="wedgeEllipseCallout">
            <a:avLst>
              <a:gd name="adj1" fmla="val 79824"/>
              <a:gd name="adj2" fmla="val 705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24080"/>
            <a:ext cx="3886200" cy="2438640"/>
          </a:xfrm>
          <a:prstGeom prst="wedgeEllipseCallout">
            <a:avLst>
              <a:gd name="adj1" fmla="val 93912"/>
              <a:gd name="adj2" fmla="val -38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 rot="20473200">
            <a:off x="380880" y="761760"/>
            <a:ext cx="486108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Monotype Corsiva"/>
              </a:rPr>
              <a:t>Foarte bineee !</a:t>
            </a:r>
            <a:endParaRPr b="0" lang="en-US" sz="3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4800600"/>
            <a:ext cx="2133360" cy="7858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5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219320"/>
            <a:ext cx="4952880" cy="43066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4724280" y="304920"/>
            <a:ext cx="4114800" cy="2057400"/>
          </a:xfrm>
          <a:prstGeom prst="wedgeEllipseCallout">
            <a:avLst>
              <a:gd name="adj1" fmla="val -67708"/>
              <a:gd name="adj2" fmla="val 746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 studiază, priete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762120" y="5943600"/>
            <a:ext cx="289548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 recapituluăm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6019920" y="5867280"/>
            <a:ext cx="243828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Mai încearc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50000">
                <a:srgbClr val="000082"/>
              </a:gs>
              <a:gs pos="100000">
                <a:srgbClr val="0047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143000" cy="113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1066680" cy="97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2133720"/>
            <a:ext cx="60199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Times New Roman"/>
              </a:rPr>
              <a:t>Exerciţi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66"/>
                </a:solidFill>
                <a:latin typeface="Times New Roman"/>
              </a:rPr>
              <a:t>Selectează substantivele care denumesc lucr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662280"/>
            <a:ext cx="198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mas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la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d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jucă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rândunic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3510000"/>
            <a:ext cx="1524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frig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mătur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cio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pălă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5181480" y="609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2438280" y="44928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3733920" y="371520"/>
            <a:ext cx="1295280" cy="112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705720" y="558720"/>
            <a:ext cx="990360" cy="91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7524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sema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69056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as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69056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i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69056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169056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şi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9056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orab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16905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0"/>
          <a:stretch/>
        </p:blipFill>
        <p:spPr>
          <a:xfrm>
            <a:off x="7772400" y="304920"/>
            <a:ext cx="120816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enumim  lucr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1" action="ppaction://hlinksldjump"/>
          </p:cNvPr>
          <p:cNvSpPr/>
          <p:nvPr/>
        </p:nvSpPr>
        <p:spPr>
          <a:xfrm>
            <a:off x="2514600" y="60958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3" action="ppaction://hlinksldjump"/>
          </p:cNvPr>
          <p:cNvSpPr/>
          <p:nvPr/>
        </p:nvSpPr>
        <p:spPr>
          <a:xfrm>
            <a:off x="4343400" y="6095880"/>
            <a:ext cx="1828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Mai de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  <a:effectLst>
            <a:outerShdw dist="153753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762120"/>
            <a:ext cx="3768840" cy="5410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1752480" y="228600"/>
            <a:ext cx="2667240" cy="1066680"/>
          </a:xfrm>
          <a:prstGeom prst="wedgeRoundRectCallout">
            <a:avLst>
              <a:gd name="adj1" fmla="val 100833"/>
              <a:gd name="adj2" fmla="val 8199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Îmi pare rău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i greşit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6" action="ppaction://hlinksldjump"/>
          </p:cNvPr>
          <p:cNvSpPr/>
          <p:nvPr/>
        </p:nvSpPr>
        <p:spPr>
          <a:xfrm>
            <a:off x="1676520" y="1828800"/>
            <a:ext cx="2895480" cy="990720"/>
          </a:xfrm>
          <a:prstGeom prst="wedgeRoundRectCallout">
            <a:avLst>
              <a:gd name="adj1" fmla="val 88541"/>
              <a:gd name="adj2" fmla="val -4150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u te sper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petă definiţ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12760" y="4419720"/>
            <a:ext cx="1325520" cy="147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95680" y="4038480"/>
            <a:ext cx="1325520" cy="147492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609480" y="617220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3" action="ppaction://hlinksldjump"/>
          </p:cNvPr>
          <p:cNvSpPr/>
          <p:nvPr/>
        </p:nvSpPr>
        <p:spPr>
          <a:xfrm>
            <a:off x="5715000" y="6095880"/>
            <a:ext cx="2133720" cy="57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006600"/>
              </a:gs>
              <a:gs pos="100000">
                <a:srgbClr val="00cc00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4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6868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1066680"/>
            <a:ext cx="4505400" cy="52088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3886200" y="228600"/>
            <a:ext cx="4191120" cy="1066680"/>
          </a:xfrm>
          <a:prstGeom prst="wedgeRoundRectCallout">
            <a:avLst>
              <a:gd name="adj1" fmla="val -44509"/>
              <a:gd name="adj2" fmla="val 95981"/>
              <a:gd name="adj3" fmla="val 16667"/>
            </a:avLst>
          </a:prstGeom>
          <a:solidFill>
            <a:srgbClr val="b3c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şti copil deştep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iţi un da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530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457200" y="5791320"/>
            <a:ext cx="2133720" cy="785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56:40Z</dcterms:created>
  <dc:creator>gabi</dc:creator>
  <dc:description/>
  <dc:language>en-US</dc:language>
  <cp:lastModifiedBy>IULIA</cp:lastModifiedBy>
  <dcterms:modified xsi:type="dcterms:W3CDTF">2010-01-12T13:50:06Z</dcterms:modified>
  <cp:revision>188</cp:revision>
  <dc:subject/>
  <dc:title>PowerPoint Presentation</dc:title>
</cp:coreProperties>
</file>